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8855-9591-49C9-A26C-D421C2619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32E5-6E0A-43C0-ADFD-A23DB5D58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8F7B-15D4-44A6-B6CB-DCF4C4585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D7AC-1514-404F-A97B-F19F4C0D9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ACEF-8AB5-44D9-AED9-A0C872902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0D08-4FDA-4F77-AA81-B7E89E7E1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5ABF-F352-4D52-9302-5A55489E7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22EF-1EBD-411E-9253-BCBC93502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5C92-FDF3-41D0-BF96-01052C78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3587-0422-4A03-A82B-5BA602E5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C8E4-D658-45C3-BD3B-6D39DEA2C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7C6A-130D-4403-941C-883A3053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0D8C-87A9-47EB-BC49-D08A125F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0CF0-6F6E-40BA-A056-EB1F8D91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D136-6D9D-42C0-822B-0C85C80B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2770-EAA9-433C-ADD7-D5396CD6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3983-DB37-4773-80E6-BBD35F10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6807-7C46-40B6-8E5E-0DA1260F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C0DB-5EF0-41D0-B065-EF3A78B0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3C83-F1D2-435A-8E17-D44E74EE6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День третий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День третий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2438280"/>
            <a:ext cx="9144000" cy="198144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«Он уже живет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images.jpeg"/>
          <p:cNvPicPr/>
          <p:nvPr/>
        </p:nvPicPr>
        <p:blipFill>
          <a:blip r:embed="rId1"/>
          <a:stretch/>
        </p:blipFill>
        <p:spPr>
          <a:xfrm>
            <a:off x="7238880" y="457200"/>
            <a:ext cx="1524240" cy="2190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200px-Janusz_Korczak.PNG"/>
          <p:cNvPicPr/>
          <p:nvPr/>
        </p:nvPicPr>
        <p:blipFill>
          <a:blip r:embed="rId2"/>
          <a:stretch/>
        </p:blipFill>
        <p:spPr>
          <a:xfrm>
            <a:off x="6172200" y="4191120"/>
            <a:ext cx="1536840" cy="2441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m_26753.jpg"/>
          <p:cNvPicPr/>
          <p:nvPr/>
        </p:nvPicPr>
        <p:blipFill>
          <a:blip r:embed="rId3"/>
          <a:stretch/>
        </p:blipFill>
        <p:spPr>
          <a:xfrm>
            <a:off x="380880" y="380880"/>
            <a:ext cx="1878120" cy="2306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Johann_Heinrich_Pestalozzi.jpg"/>
          <p:cNvPicPr/>
          <p:nvPr/>
        </p:nvPicPr>
        <p:blipFill>
          <a:blip r:embed="rId4"/>
          <a:stretch/>
        </p:blipFill>
        <p:spPr>
          <a:xfrm>
            <a:off x="1295280" y="4210200"/>
            <a:ext cx="1752840" cy="23428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57200" y="11592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просы для размышлен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57200" y="907920"/>
            <a:ext cx="82296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Согласны ли Вы с утверждением: «Воспитание происходит только в условиях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духовной общ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? А как Ваша практ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Согласны ли Вы с утверждение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Ребенок не готовится к жизни,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он уже жив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? А как Ваша практ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ужно ли говорить детям о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смысле жиз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 ли Вы детей смыслу жизни? Что есть для Вас смысл жиз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Будут ли Ваши ученики учиться успешнее,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если прекратить ставить им отмет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57200" y="11592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ысли для анализ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Жизнь – это шанс, не упусти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знь – это красота, удивляйся 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знь – это мечта, осуществи 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знь – это долг, исполни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знь – это игра, так игр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знь – это любовь, так люб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знь – это тайна, разгадай 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знь – это трагедия, выдержи 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знь – это приключение, решись на н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знь – это жизнь, спаси е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знь – это счастье, сотвори его с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ть сто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уничтожай свою жизнь!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Мать Терез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Isosceles Triangle 3"/>
          <p:cNvSpPr/>
          <p:nvPr/>
        </p:nvSpPr>
        <p:spPr>
          <a:xfrm rot="10800000">
            <a:off x="2438280" y="2590920"/>
            <a:ext cx="4114800" cy="3504960"/>
          </a:xfrm>
          <a:prstGeom prst="triangle">
            <a:avLst>
              <a:gd name="adj" fmla="val 50000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b6dcdf"/>
            </a:solidFill>
            <a:miter/>
          </a:ln>
          <a:effectLst>
            <a:outerShdw dist="507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Isosceles Triangle 7"/>
          <p:cNvSpPr/>
          <p:nvPr/>
        </p:nvSpPr>
        <p:spPr>
          <a:xfrm>
            <a:off x="2438280" y="1447920"/>
            <a:ext cx="4114800" cy="3504960"/>
          </a:xfrm>
          <a:prstGeom prst="triangle">
            <a:avLst>
              <a:gd name="adj" fmla="val 50000"/>
            </a:avLst>
          </a:prstGeom>
          <a:solidFill>
            <a:srgbClr val="0000ff">
              <a:alpha val="40000"/>
            </a:srgbClr>
          </a:solidFill>
          <a:ln w="9360">
            <a:solidFill>
              <a:srgbClr val="b6dcdf"/>
            </a:solidFill>
            <a:miter/>
          </a:ln>
          <a:effectLst>
            <a:outerShdw dist="507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2"/>
          <p:cNvGrpSpPr/>
          <p:nvPr/>
        </p:nvGrpSpPr>
        <p:grpSpPr>
          <a:xfrm>
            <a:off x="3276720" y="2654280"/>
            <a:ext cx="2355840" cy="2298600"/>
            <a:chOff x="3276720" y="2654280"/>
            <a:chExt cx="2355840" cy="2298600"/>
          </a:xfrm>
        </p:grpSpPr>
        <p:sp>
          <p:nvSpPr>
            <p:cNvPr id="65" name="Oval 8"/>
            <p:cNvSpPr/>
            <p:nvPr/>
          </p:nvSpPr>
          <p:spPr>
            <a:xfrm>
              <a:off x="3276720" y="2654280"/>
              <a:ext cx="2355840" cy="229860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9"/>
            <p:cNvSpPr/>
            <p:nvPr/>
          </p:nvSpPr>
          <p:spPr>
            <a:xfrm>
              <a:off x="4295880" y="2914560"/>
              <a:ext cx="317520" cy="3189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0"/>
            <p:cNvSpPr/>
            <p:nvPr/>
          </p:nvSpPr>
          <p:spPr>
            <a:xfrm>
              <a:off x="3722760" y="4060800"/>
              <a:ext cx="317520" cy="3189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1"/>
            <p:cNvSpPr/>
            <p:nvPr/>
          </p:nvSpPr>
          <p:spPr>
            <a:xfrm>
              <a:off x="4932720" y="4060800"/>
              <a:ext cx="317520" cy="3189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89" descr="Opyat_dvoyka.jpg"/>
          <p:cNvPicPr/>
          <p:nvPr/>
        </p:nvPicPr>
        <p:blipFill>
          <a:blip r:embed="rId1"/>
          <a:stretch/>
        </p:blipFill>
        <p:spPr>
          <a:xfrm>
            <a:off x="1508040" y="0"/>
            <a:ext cx="612792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Урок в сельской школе.jpeg"/>
          <p:cNvPicPr/>
          <p:nvPr/>
        </p:nvPicPr>
        <p:blipFill>
          <a:blip r:embed="rId1"/>
          <a:stretch/>
        </p:blipFill>
        <p:spPr>
          <a:xfrm>
            <a:off x="1908000" y="0"/>
            <a:ext cx="453564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6T10:56:26Z</dcterms:created>
  <dc:creator>paata</dc:creator>
  <dc:description/>
  <dc:language>en-US</dc:language>
  <cp:lastModifiedBy>Paata Amonashvili</cp:lastModifiedBy>
  <dcterms:modified xsi:type="dcterms:W3CDTF">2014-01-20T16:35:10Z</dcterms:modified>
  <cp:revision>122</cp:revision>
  <dc:subject/>
  <dc:title>Slide 1</dc:title>
</cp:coreProperties>
</file>