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E47-8337-4825-9288-C70F5F0E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1F5D-3B33-4123-9CA3-CB14FA0F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540B-170F-4D64-958B-8F68CED1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468-3384-490E-8F1A-D0A3DBC1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F3CF-8392-4853-98D9-EC9B8585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749-CBC7-4140-AC58-D70DD00E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AA1-1853-486D-909F-2DE5E535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825-EB7A-4620-8639-DDB08615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606-33E3-4469-9676-F25B1B72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BB3-7759-401A-894B-F7F9D3F7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D34-185F-40A9-9014-FC91D8A9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9FC-485C-4FB2-9A49-9D255288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4D5C-38A3-4685-810B-9C244F694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Тайна Славянской</a:t>
            </a:r>
            <a:br>
              <a:rPr sz="5400"/>
            </a:b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АзБ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324000" y="476280"/>
            <a:ext cx="849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Е. ВСЯКИЙ. КТО. ЧИТАТЬ. В. ЧТЕНИЕ. СИЛА. ЗНАТЬ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5280" y="234792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УЧЕНЫЙ. ВОДИТЬ. НЕУЧЕНЫЙ. СЛЕД. ХОДИТЬ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528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4200" y="400356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04292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33020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192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06560" y="400536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195640" y="4005360"/>
            <a:ext cx="21564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82920" y="400536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844720" y="3932280"/>
            <a:ext cx="9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8144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140360" y="400356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4290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1636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00544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292720" y="400536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72616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8472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37380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610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020000" y="393228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45164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81056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0992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386920" y="400356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67564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20000" y="393228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4000" y="1195560"/>
            <a:ext cx="7488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Е ВСЯКИЙ, КТО ЧИТАЕТ, В ЧТЕНИИ СИЛУ ЗН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95280" y="285264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УЧЕНЫЙ ВОДИТ, НЕУЧЕНЫЙ СЛЕДОМ ХОД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95280" y="4437000"/>
            <a:ext cx="597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УДРОСТЬ ЕСТЬ ЦАРИЦА НЕБА И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2D3-675B-43DF-A91C-0CFFF7C62B7D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1506600" cy="18003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1187280" y="4005360"/>
            <a:ext cx="1506600" cy="18000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68256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2072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8360" y="4076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28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20720" y="580536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0036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98920" y="41497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771640" y="53006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844720" y="42228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6364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272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8360" y="53020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763640" y="58784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22620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436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083280" y="4005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93892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51528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4400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9280" y="4076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315280" y="50115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24544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30728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27640" y="40784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012000" y="5013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588000" y="5877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74072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883640" y="5805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3492360" y="3357720"/>
            <a:ext cx="2338560" cy="3213000"/>
          </a:xfrm>
          <a:prstGeom prst="rect">
            <a:avLst/>
          </a:prstGeom>
          <a:ln w="0">
            <a:noFill/>
          </a:ln>
        </p:spPr>
      </p:pic>
      <p:grpSp>
        <p:nvGrpSpPr>
          <p:cNvPr id="587" name=""/>
          <p:cNvGrpSpPr/>
          <p:nvPr/>
        </p:nvGrpSpPr>
        <p:grpSpPr>
          <a:xfrm>
            <a:off x="179280" y="1197000"/>
            <a:ext cx="4392720" cy="647640"/>
            <a:chOff x="179280" y="1197000"/>
            <a:chExt cx="4392720" cy="647640"/>
          </a:xfrm>
        </p:grpSpPr>
        <p:sp>
          <p:nvSpPr>
            <p:cNvPr id="588" name=""/>
            <p:cNvSpPr/>
            <p:nvPr/>
          </p:nvSpPr>
          <p:spPr>
            <a:xfrm>
              <a:off x="17928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1188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430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3756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0824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394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572000" y="1197000"/>
            <a:ext cx="4392720" cy="647640"/>
            <a:chOff x="4572000" y="1197000"/>
            <a:chExt cx="4392720" cy="647640"/>
          </a:xfrm>
        </p:grpSpPr>
        <p:sp>
          <p:nvSpPr>
            <p:cNvPr id="595" name=""/>
            <p:cNvSpPr/>
            <p:nvPr/>
          </p:nvSpPr>
          <p:spPr>
            <a:xfrm>
              <a:off x="45720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30460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357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83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0096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3212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79280" y="1844640"/>
            <a:ext cx="4392720" cy="647640"/>
            <a:chOff x="179280" y="1844640"/>
            <a:chExt cx="4392720" cy="647640"/>
          </a:xfrm>
        </p:grpSpPr>
        <p:sp>
          <p:nvSpPr>
            <p:cNvPr id="602" name=""/>
            <p:cNvSpPr/>
            <p:nvPr/>
          </p:nvSpPr>
          <p:spPr>
            <a:xfrm>
              <a:off x="17928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1188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430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756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0824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394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572000" y="1844640"/>
            <a:ext cx="4392720" cy="647640"/>
            <a:chOff x="4572000" y="1844640"/>
            <a:chExt cx="4392720" cy="647640"/>
          </a:xfrm>
        </p:grpSpPr>
        <p:sp>
          <p:nvSpPr>
            <p:cNvPr id="609" name=""/>
            <p:cNvSpPr/>
            <p:nvPr/>
          </p:nvSpPr>
          <p:spPr>
            <a:xfrm>
              <a:off x="45720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0460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357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683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0096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23212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79280" y="2494080"/>
            <a:ext cx="4392720" cy="647640"/>
            <a:chOff x="179280" y="2494080"/>
            <a:chExt cx="4392720" cy="647640"/>
          </a:xfrm>
        </p:grpSpPr>
        <p:sp>
          <p:nvSpPr>
            <p:cNvPr id="616" name=""/>
            <p:cNvSpPr/>
            <p:nvPr/>
          </p:nvSpPr>
          <p:spPr>
            <a:xfrm>
              <a:off x="17928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1188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64304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7564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0824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3940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4572000" y="2494080"/>
            <a:ext cx="4392720" cy="647640"/>
            <a:chOff x="4572000" y="2494080"/>
            <a:chExt cx="4392720" cy="647640"/>
          </a:xfrm>
        </p:grpSpPr>
        <p:sp>
          <p:nvSpPr>
            <p:cNvPr id="623" name=""/>
            <p:cNvSpPr/>
            <p:nvPr/>
          </p:nvSpPr>
          <p:spPr>
            <a:xfrm>
              <a:off x="457200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0460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3576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76836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0096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23212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2400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971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763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484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203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995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716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35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156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87708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667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388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400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97164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у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69236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340000" y="184464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ла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059280" y="184464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об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780000" y="1844640"/>
            <a:ext cx="86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м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Жи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29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ем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8472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73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45164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ю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17236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ыс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8ED-2FE6-4DEF-9499-25370B60C229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1506600" cy="180036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1187280" y="4005360"/>
            <a:ext cx="1506600" cy="1800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68256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2072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68360" y="4076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528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620720" y="580536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70036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698920" y="41497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771640" y="53006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844720" y="42228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76364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1272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68360" y="53020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763640" y="58784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22620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16436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83280" y="4005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93892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51528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24400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8099280" y="4076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8315280" y="50115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24544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30728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227640" y="40784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012000" y="5013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588000" y="5877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74072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883640" y="5805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3"/>
          <a:stretch/>
        </p:blipFill>
        <p:spPr>
          <a:xfrm>
            <a:off x="3492360" y="3357720"/>
            <a:ext cx="2338560" cy="3213000"/>
          </a:xfrm>
          <a:prstGeom prst="rect">
            <a:avLst/>
          </a:prstGeom>
          <a:ln w="0">
            <a:noFill/>
          </a:ln>
        </p:spPr>
      </p:pic>
      <p:grpSp>
        <p:nvGrpSpPr>
          <p:cNvPr id="685" name=""/>
          <p:cNvGrpSpPr/>
          <p:nvPr/>
        </p:nvGrpSpPr>
        <p:grpSpPr>
          <a:xfrm>
            <a:off x="179280" y="1197000"/>
            <a:ext cx="4392720" cy="647640"/>
            <a:chOff x="179280" y="1197000"/>
            <a:chExt cx="4392720" cy="647640"/>
          </a:xfrm>
        </p:grpSpPr>
        <p:sp>
          <p:nvSpPr>
            <p:cNvPr id="686" name=""/>
            <p:cNvSpPr/>
            <p:nvPr/>
          </p:nvSpPr>
          <p:spPr>
            <a:xfrm>
              <a:off x="17928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1188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430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56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10824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394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4572000" y="1197000"/>
            <a:ext cx="4392720" cy="647640"/>
            <a:chOff x="4572000" y="1197000"/>
            <a:chExt cx="4392720" cy="647640"/>
          </a:xfrm>
        </p:grpSpPr>
        <p:sp>
          <p:nvSpPr>
            <p:cNvPr id="693" name=""/>
            <p:cNvSpPr/>
            <p:nvPr/>
          </p:nvSpPr>
          <p:spPr>
            <a:xfrm>
              <a:off x="45720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0460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357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683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0096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23212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79280" y="1844640"/>
            <a:ext cx="4392720" cy="647640"/>
            <a:chOff x="179280" y="1844640"/>
            <a:chExt cx="4392720" cy="647640"/>
          </a:xfrm>
        </p:grpSpPr>
        <p:sp>
          <p:nvSpPr>
            <p:cNvPr id="700" name=""/>
            <p:cNvSpPr/>
            <p:nvPr/>
          </p:nvSpPr>
          <p:spPr>
            <a:xfrm>
              <a:off x="17928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91188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430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756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0824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394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4572000" y="1844640"/>
            <a:ext cx="4392720" cy="647640"/>
            <a:chOff x="4572000" y="1844640"/>
            <a:chExt cx="4392720" cy="647640"/>
          </a:xfrm>
        </p:grpSpPr>
        <p:sp>
          <p:nvSpPr>
            <p:cNvPr id="707" name=""/>
            <p:cNvSpPr/>
            <p:nvPr/>
          </p:nvSpPr>
          <p:spPr>
            <a:xfrm>
              <a:off x="45720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30460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0357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683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0096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23212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179280" y="2494080"/>
            <a:ext cx="4392720" cy="647640"/>
            <a:chOff x="179280" y="2494080"/>
            <a:chExt cx="4392720" cy="647640"/>
          </a:xfrm>
        </p:grpSpPr>
        <p:sp>
          <p:nvSpPr>
            <p:cNvPr id="714" name=""/>
            <p:cNvSpPr/>
            <p:nvPr/>
          </p:nvSpPr>
          <p:spPr>
            <a:xfrm>
              <a:off x="17928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1188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4304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37564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0824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3940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4572000" y="2494080"/>
            <a:ext cx="4392720" cy="647640"/>
            <a:chOff x="4572000" y="2494080"/>
            <a:chExt cx="4392720" cy="647640"/>
          </a:xfrm>
        </p:grpSpPr>
        <p:sp>
          <p:nvSpPr>
            <p:cNvPr id="721" name=""/>
            <p:cNvSpPr/>
            <p:nvPr/>
          </p:nvSpPr>
          <p:spPr>
            <a:xfrm>
              <a:off x="457200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0460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3576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76836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0096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23212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32400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971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763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484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203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716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435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156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87708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667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388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2400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97164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у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69236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340000" y="184464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ла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059280" y="184464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об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780000" y="1844640"/>
            <a:ext cx="86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м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57200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Жи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29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ем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08472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73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45164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ю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17236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ыс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249228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900000" y="249228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ни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619280" y="249228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е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340000" y="249228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203640" y="2781360"/>
            <a:ext cx="504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51280" y="249228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227640" y="249228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948360" y="249228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643280" y="2781360"/>
            <a:ext cx="505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435640" y="2781360"/>
            <a:ext cx="504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596360" y="2781360"/>
            <a:ext cx="504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315280" y="2781360"/>
            <a:ext cx="504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013-2406-4C94-8666-8405F0B4EA0F}" type="slidenum">
              <a:t>12</a:t>
            </a:fld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395280" y="1268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Я. Книга. Ведать. Слово. Добро. Есть. Жизнь. Земля. И. Как. Люди. Мысле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9640" y="3357720"/>
            <a:ext cx="8280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Я, Книга, ведающая Словом добра, есть жизнь Земли и, как люди, мысл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2BB-3039-4F09-9932-210087701243}" type="slidenum">
              <a:t>13</a:t>
            </a:fld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1506600" cy="180036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2"/>
          <a:stretch/>
        </p:blipFill>
        <p:spPr>
          <a:xfrm>
            <a:off x="1187280" y="4005360"/>
            <a:ext cx="1506600" cy="18000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8256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62072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68360" y="4076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620720" y="580536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70036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698920" y="41497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771640" y="53006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44720" y="42228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6364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1272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68360" y="53020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763640" y="58784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22620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6436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83280" y="4005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3892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51528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824400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8099280" y="4076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8315280" y="50115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24544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30728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227640" y="40784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012000" y="5013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588000" y="5877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74072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883640" y="5805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3"/>
          <a:stretch/>
        </p:blipFill>
        <p:spPr>
          <a:xfrm>
            <a:off x="3492360" y="3357720"/>
            <a:ext cx="2338560" cy="3213000"/>
          </a:xfrm>
          <a:prstGeom prst="rect">
            <a:avLst/>
          </a:prstGeom>
          <a:ln w="0">
            <a:noFill/>
          </a:ln>
        </p:spPr>
      </p:pic>
      <p:grpSp>
        <p:nvGrpSpPr>
          <p:cNvPr id="797" name=""/>
          <p:cNvGrpSpPr/>
          <p:nvPr/>
        </p:nvGrpSpPr>
        <p:grpSpPr>
          <a:xfrm>
            <a:off x="179280" y="1197000"/>
            <a:ext cx="4392720" cy="647640"/>
            <a:chOff x="179280" y="1197000"/>
            <a:chExt cx="4392720" cy="647640"/>
          </a:xfrm>
        </p:grpSpPr>
        <p:sp>
          <p:nvSpPr>
            <p:cNvPr id="798" name=""/>
            <p:cNvSpPr/>
            <p:nvPr/>
          </p:nvSpPr>
          <p:spPr>
            <a:xfrm>
              <a:off x="17928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1188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430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756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10824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394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4572000" y="1197000"/>
            <a:ext cx="4392720" cy="647640"/>
            <a:chOff x="4572000" y="1197000"/>
            <a:chExt cx="4392720" cy="647640"/>
          </a:xfrm>
        </p:grpSpPr>
        <p:sp>
          <p:nvSpPr>
            <p:cNvPr id="805" name=""/>
            <p:cNvSpPr/>
            <p:nvPr/>
          </p:nvSpPr>
          <p:spPr>
            <a:xfrm>
              <a:off x="45720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0460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357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683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0096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23212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179280" y="1844640"/>
            <a:ext cx="4392720" cy="647640"/>
            <a:chOff x="179280" y="1844640"/>
            <a:chExt cx="4392720" cy="647640"/>
          </a:xfrm>
        </p:grpSpPr>
        <p:sp>
          <p:nvSpPr>
            <p:cNvPr id="812" name=""/>
            <p:cNvSpPr/>
            <p:nvPr/>
          </p:nvSpPr>
          <p:spPr>
            <a:xfrm>
              <a:off x="17928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1188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6430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3756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0824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8394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572000" y="1844640"/>
            <a:ext cx="4392720" cy="647640"/>
            <a:chOff x="4572000" y="1844640"/>
            <a:chExt cx="4392720" cy="647640"/>
          </a:xfrm>
        </p:grpSpPr>
        <p:sp>
          <p:nvSpPr>
            <p:cNvPr id="819" name=""/>
            <p:cNvSpPr/>
            <p:nvPr/>
          </p:nvSpPr>
          <p:spPr>
            <a:xfrm>
              <a:off x="45720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30460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0357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7683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50096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23212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32400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971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63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84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203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995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716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435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156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87708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667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388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2400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7164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у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69236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340000" y="184464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ла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059280" y="184464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об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780000" y="1844640"/>
            <a:ext cx="86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м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57200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Жи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29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ем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08472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73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45164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ю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17236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ыс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54880" y="2701800"/>
            <a:ext cx="87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, Книга, ведающая Словом добра, есть жизнь Земли и, как люди, мыс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AB5-6D87-4F08-81B5-A6AB618763A2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55640" y="4149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3203640" y="706320"/>
            <a:ext cx="2759040" cy="3299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51280" y="1341360"/>
            <a:ext cx="29527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05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РОК: 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41300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5080" y="1413000"/>
            <a:ext cx="194292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16280"/>
            <a:ext cx="1079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Е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36360" y="2708280"/>
            <a:ext cx="1765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ате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206208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270972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105264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3399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335772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8920" y="3860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3860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4560" y="342900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1844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2920" y="1268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191628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1341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5280" y="1125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2920" y="141300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198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342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99280" y="3500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8720" y="393372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933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1916280"/>
            <a:ext cx="1944720" cy="1800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1341360"/>
            <a:ext cx="208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В НАЧАЛ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ЛО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49440" y="350208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КТО ИЩЕ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386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728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6364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2720" y="3932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393372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9080" y="393372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6360" y="393372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5080" y="393372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21080" y="386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-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3800" y="422100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АХОДИ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4720" y="458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465300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465444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4720" y="465444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32000" y="465444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8160" y="458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08464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. ВСЯКИЙ. КТО. ЧИТАТЬ. В. ЧТЕНИЕ. СИЛА. ЗНАТ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44500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ЧЕНЫЙ. ВОДИТЬ. НЕУЧЕНЫЙ. СЛЕД. ХОДИТЬ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420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02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656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950080"/>
            <a:ext cx="21564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29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44720" y="5877000"/>
            <a:ext cx="9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814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9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54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616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47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38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1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20000" y="587700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516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105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9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692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756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820000" y="587700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122-5C72-4F4B-B8A4-E9A6748DA1C2}" type="slidenum">
              <a:t>2</a:t>
            </a:fld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7" dur="1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8" dur="1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1506600" cy="1800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187280" y="4005360"/>
            <a:ext cx="1506600" cy="1800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256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2072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4076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20720" y="580536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98920" y="41497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53006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4720" y="42228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272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53020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58784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620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6436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3280" y="4005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3892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1528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4400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99280" y="4076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15280" y="50115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4544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728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40784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5013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5877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83640" y="5805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492360" y="3357720"/>
            <a:ext cx="2338560" cy="321300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179280" y="1197000"/>
            <a:ext cx="4392720" cy="647640"/>
            <a:chOff x="179280" y="1197000"/>
            <a:chExt cx="4392720" cy="647640"/>
          </a:xfrm>
        </p:grpSpPr>
        <p:sp>
          <p:nvSpPr>
            <p:cNvPr id="156" name=""/>
            <p:cNvSpPr/>
            <p:nvPr/>
          </p:nvSpPr>
          <p:spPr>
            <a:xfrm>
              <a:off x="17928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188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430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756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0824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394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572000" y="1197000"/>
            <a:ext cx="4392720" cy="647640"/>
            <a:chOff x="4572000" y="1197000"/>
            <a:chExt cx="4392720" cy="647640"/>
          </a:xfrm>
        </p:grpSpPr>
        <p:sp>
          <p:nvSpPr>
            <p:cNvPr id="163" name=""/>
            <p:cNvSpPr/>
            <p:nvPr/>
          </p:nvSpPr>
          <p:spPr>
            <a:xfrm>
              <a:off x="45720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0460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357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683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0096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3212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79280" y="1844640"/>
            <a:ext cx="4392720" cy="647640"/>
            <a:chOff x="179280" y="1844640"/>
            <a:chExt cx="4392720" cy="647640"/>
          </a:xfrm>
        </p:grpSpPr>
        <p:sp>
          <p:nvSpPr>
            <p:cNvPr id="170" name=""/>
            <p:cNvSpPr/>
            <p:nvPr/>
          </p:nvSpPr>
          <p:spPr>
            <a:xfrm>
              <a:off x="17928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1188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30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756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0824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394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572000" y="1844640"/>
            <a:ext cx="4392720" cy="647640"/>
            <a:chOff x="4572000" y="1844640"/>
            <a:chExt cx="4392720" cy="647640"/>
          </a:xfrm>
        </p:grpSpPr>
        <p:sp>
          <p:nvSpPr>
            <p:cNvPr id="177" name=""/>
            <p:cNvSpPr/>
            <p:nvPr/>
          </p:nvSpPr>
          <p:spPr>
            <a:xfrm>
              <a:off x="45720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0460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357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683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0096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3212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79280" y="2494080"/>
            <a:ext cx="4392720" cy="647640"/>
            <a:chOff x="179280" y="2494080"/>
            <a:chExt cx="4392720" cy="647640"/>
          </a:xfrm>
        </p:grpSpPr>
        <p:sp>
          <p:nvSpPr>
            <p:cNvPr id="184" name=""/>
            <p:cNvSpPr/>
            <p:nvPr/>
          </p:nvSpPr>
          <p:spPr>
            <a:xfrm>
              <a:off x="17928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1188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4304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7564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0824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3940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572000" y="2494080"/>
            <a:ext cx="4392720" cy="647640"/>
            <a:chOff x="4572000" y="2494080"/>
            <a:chExt cx="4392720" cy="647640"/>
          </a:xfrm>
        </p:grpSpPr>
        <p:sp>
          <p:nvSpPr>
            <p:cNvPr id="191" name=""/>
            <p:cNvSpPr/>
            <p:nvPr/>
          </p:nvSpPr>
          <p:spPr>
            <a:xfrm>
              <a:off x="457200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0460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3576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6836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0096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3212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2400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71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95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16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35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6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7708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67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88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у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184464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ла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59280" y="184464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об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80000" y="1844640"/>
            <a:ext cx="86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м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Жи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ем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5164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ю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17236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ыс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740720" y="476280"/>
            <a:ext cx="7142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863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95D-8315-4FE4-A274-24BCC94904F1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51280" y="1341360"/>
            <a:ext cx="29527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05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РОК: 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141300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5080" y="1413000"/>
            <a:ext cx="194292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1916280"/>
            <a:ext cx="1079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Е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36360" y="2708280"/>
            <a:ext cx="1765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ате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03280" y="206208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03280" y="270972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32360" y="105264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0360" y="13399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191628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51280" y="335772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8920" y="3860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35640" y="3860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4560" y="342900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4364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00720" y="1844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22920" y="1268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191628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341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5280" y="1125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2920" y="141300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08360" y="198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3528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24360" y="342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8800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99280" y="3500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08720" y="393372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3933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1916280"/>
            <a:ext cx="1944720" cy="1800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93080" y="1341360"/>
            <a:ext cx="208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В НАЧАЛ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ЛО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49440" y="350208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КТО ИЩЕ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00000" y="386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636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364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2720" y="3932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40000" y="393372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29080" y="393372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393372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5080" y="393372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1080" y="386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-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93800" y="422100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АХОДИ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44720" y="458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0328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92360" y="465300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964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6836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56000" y="465444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44720" y="465444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465444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8160" y="458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508464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. ВСЯКИЙ. КТО. ЧИТАТЬ. В. ЧТЕНИЕ. СИЛА. ЗНАТ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544500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ЧЕНЫЙ. ВОДИТЬ. НЕУЧЕНЫЙ. СЛЕД. ХОДИТЬ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420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429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302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1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0656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95640" y="5950080"/>
            <a:ext cx="21564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29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44720" y="5877000"/>
            <a:ext cx="9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814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4036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29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163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54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927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2616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847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738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61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20000" y="587700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516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8105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9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38692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6756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820000" y="587700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8D3-69CD-40D2-A771-3AD326200BDB}" type="slidenum">
              <a:t>4</a:t>
            </a:fld>
          </a:p>
        </p:txBody>
      </p:sp>
    </p:spTree>
  </p:cSld>
  <p:transition>
    <p:checke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" dur="1500" autoRev="1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15" dur="1500" autoRev="1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16" dur="1500" autoRev="1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1763640" y="476280"/>
            <a:ext cx="6121440" cy="5618160"/>
            <a:chOff x="1763640" y="476280"/>
            <a:chExt cx="6121440" cy="5618160"/>
          </a:xfrm>
        </p:grpSpPr>
        <p:sp>
          <p:nvSpPr>
            <p:cNvPr id="304" name=""/>
            <p:cNvSpPr/>
            <p:nvPr/>
          </p:nvSpPr>
          <p:spPr>
            <a:xfrm>
              <a:off x="2358720" y="955800"/>
              <a:ext cx="4902480" cy="478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54400" y="476280"/>
              <a:ext cx="1077840" cy="957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38240" y="952560"/>
              <a:ext cx="1077840" cy="9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00160" y="1909800"/>
              <a:ext cx="1077840" cy="9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63640" y="3106800"/>
              <a:ext cx="1077840" cy="9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58720" y="4302360"/>
              <a:ext cx="1077840" cy="9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33680" y="5137200"/>
              <a:ext cx="1077840" cy="9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89240" y="5137200"/>
              <a:ext cx="1077840" cy="9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83000" y="4421520"/>
              <a:ext cx="1078200" cy="9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62520" y="3106800"/>
              <a:ext cx="1077840" cy="9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26000" y="1791000"/>
              <a:ext cx="1077840" cy="9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65520" y="835200"/>
              <a:ext cx="1077840" cy="9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11840" y="2079720"/>
              <a:ext cx="957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33720" y="1090800"/>
              <a:ext cx="957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00360" y="712800"/>
              <a:ext cx="955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82760" y="1217880"/>
              <a:ext cx="957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90680" y="2200320"/>
              <a:ext cx="9554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28600" y="3359520"/>
              <a:ext cx="957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49240" y="4591080"/>
              <a:ext cx="955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27480" y="3359520"/>
              <a:ext cx="9576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68920" y="4675320"/>
              <a:ext cx="957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78320" y="5429520"/>
              <a:ext cx="957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24200" y="5429520"/>
              <a:ext cx="9554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97160" y="1909800"/>
              <a:ext cx="3228840" cy="2988000"/>
            </a:xfrm>
            <a:prstGeom prst="smileyFace">
              <a:avLst>
                <a:gd name="adj" fmla="val 928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3D5-B1D0-4EAF-952C-840EDA1794F8}" type="slidenum">
              <a:t>5</a:t>
            </a:fld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51280" y="1341360"/>
            <a:ext cx="29527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05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РОК: 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4000" y="141300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5080" y="1413000"/>
            <a:ext cx="194292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9280" y="1916280"/>
            <a:ext cx="1079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Е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36360" y="2708280"/>
            <a:ext cx="1765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ате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03280" y="206208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03280" y="270972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932360" y="105264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40360" y="13399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91628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51280" y="335772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98920" y="3860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3860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154560" y="342900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4364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00720" y="1844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722920" y="1268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72360" y="191628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67280" y="1341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75280" y="1125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82920" y="141300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08360" y="198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3528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342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800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99280" y="3500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08720" y="393372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933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356000" y="1916280"/>
            <a:ext cx="1944720" cy="1800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93080" y="1341360"/>
            <a:ext cx="208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В НАЧАЛ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ЛО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49440" y="350208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КТО ИЩЕ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00000" y="386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8728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7636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6364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52720" y="3932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40000" y="393372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629080" y="393372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16360" y="393372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05080" y="393372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421080" y="386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-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93800" y="422100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АХОДИ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44720" y="458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0328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92360" y="465300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7964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6836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56000" y="465444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44720" y="465444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32000" y="465444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78160" y="458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24000" y="508464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. ВСЯКИЙ. КТО. ЧИТАТЬ. В. ЧТЕНИЕ. СИЛА. ЗНАТ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000" y="5445000"/>
            <a:ext cx="64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ЧЕНЫЙ. ВОДИТЬ. НЕУЧЕНЫЙ. СЛЕД. ХОДИТЬ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528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420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429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302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1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90656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195640" y="5950080"/>
            <a:ext cx="21564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829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44720" y="5877000"/>
            <a:ext cx="9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814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14036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429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163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054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927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2616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3738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661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20000" y="587700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516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8105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38692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6756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820000" y="587700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356000" y="278136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ердце ум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BBEE-14FC-4459-9CCE-AA6244C4A6ED}" type="slidenum">
              <a:t>6</a:t>
            </a:fld>
          </a:p>
        </p:txBody>
      </p:sp>
    </p:spTree>
  </p:cSld>
  <p:transition>
    <p:checke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2" dur="1500" autoRev="1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23" dur="1500" autoRev="1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24" dur="1500" autoRev="1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843280" y="1125360"/>
            <a:ext cx="2638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Arial"/>
              </a:rPr>
              <a:t>КТО ИЩЕ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90440" y="2205000"/>
            <a:ext cx="7448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Arial"/>
              </a:rPr>
              <a:t>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44480" y="2311560"/>
            <a:ext cx="55908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392200" y="2311560"/>
            <a:ext cx="55908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137040" y="2311560"/>
            <a:ext cx="55872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2311560"/>
            <a:ext cx="55872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29240" y="2314440"/>
            <a:ext cx="558720" cy="5605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76960" y="2314440"/>
            <a:ext cx="558720" cy="5605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21440" y="2314440"/>
            <a:ext cx="558720" cy="5605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869160" y="2314440"/>
            <a:ext cx="558720" cy="5605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427880" y="2125800"/>
            <a:ext cx="7444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987640" y="3213000"/>
            <a:ext cx="28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Arial"/>
              </a:rPr>
              <a:t>НАХОДИ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547640" y="4079880"/>
            <a:ext cx="7430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03560" y="4178160"/>
            <a:ext cx="558720" cy="559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4178160"/>
            <a:ext cx="558720" cy="559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95760" y="4178160"/>
            <a:ext cx="558720" cy="559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443480" y="4178160"/>
            <a:ext cx="558720" cy="559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187960" y="4181400"/>
            <a:ext cx="55872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935680" y="4181400"/>
            <a:ext cx="55872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680160" y="4181400"/>
            <a:ext cx="55872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356600" y="4008600"/>
            <a:ext cx="74448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3C9C-AA00-45BE-B235-D832ACD91800}" type="slidenum">
              <a:t>7</a:t>
            </a:fld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851280" y="1341360"/>
            <a:ext cx="29527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05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РОК: 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4000" y="141300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405080" y="1413000"/>
            <a:ext cx="194292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79280" y="1916280"/>
            <a:ext cx="1079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Е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36360" y="2708280"/>
            <a:ext cx="1765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ате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03280" y="206208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403280" y="270972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933800" y="105264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40360" y="13399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35280" y="191628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9236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51280" y="335772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498920" y="3860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35640" y="3860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54560" y="342900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4364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300720" y="1844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22920" y="1268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72360" y="191628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67280" y="1341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075280" y="1125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11640" y="141300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08360" y="198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56400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24360" y="342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15280" y="270828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99280" y="3500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508720" y="393372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3933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1916280"/>
            <a:ext cx="1944720" cy="1800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549440" y="350208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КТО ИЩЕ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189080" y="386064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Т Р У Д Н О С Т Ь -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93800" y="422100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АХОДИ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332000" y="4581360"/>
            <a:ext cx="24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 У Д Р О С Т Ь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24000" y="508464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. ВСЯКИЙ. КТО. ЧИТАТЬ. В. ЧТЕНИЕ. СИЛА. ЗНАТ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544500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ЧЕНЫЙ. ВОДИТЬ. НЕУЧЕНЫЙ. СЛЕД. ХОДИТЬ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9528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5420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429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3302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61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656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95640" y="5950080"/>
            <a:ext cx="21564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4829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44720" y="5877000"/>
            <a:ext cx="9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7814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14036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29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7163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054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927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2616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847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3738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61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20000" y="587700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4516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8105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09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8692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756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820000" y="587700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356000" y="278136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ердце ум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54920" y="1484280"/>
            <a:ext cx="208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В НАЧАЛ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ЛО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76B-0E59-495B-90B4-99D624A23F46}" type="slidenum">
              <a:t>8</a:t>
            </a:fld>
          </a:p>
        </p:txBody>
      </p:sp>
    </p:spTree>
  </p:cSld>
  <p:transition>
    <p:checke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" dur="1500" autoRev="1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31" dur="1500" autoRev="1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32" dur="1500" autoRev="1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24000" y="476280"/>
            <a:ext cx="849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Е. ВСЯКИЙ. КТО. ЧИТАТЬ. В. ЧТЕНИЕ. СИЛА. ЗНАТЬ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234792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УЧЕНЫЙ. ВОДИТЬ. НЕУЧЕНЫЙ. СЛЕД. ХОДИТЬ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528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54200" y="400356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4292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33020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6192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06560" y="400536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195640" y="4005360"/>
            <a:ext cx="21564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482920" y="400536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844720" y="3932280"/>
            <a:ext cx="9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78144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140360" y="400356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4290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71636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00544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400536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2616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08472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37380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6610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20000" y="393228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45164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1056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0992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386920" y="400356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67564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820000" y="393228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9A6-2518-45ED-96E1-29EBBEF9F13D}" type="slidenum">
              <a:t>9</a:t>
            </a:fld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6:18:47Z</dcterms:created>
  <dc:creator>paata</dc:creator>
  <dc:description/>
  <dc:language>en-US</dc:language>
  <cp:lastModifiedBy>paata</cp:lastModifiedBy>
  <dcterms:modified xsi:type="dcterms:W3CDTF">2007-08-10T09:15:39Z</dcterms:modified>
  <cp:revision>67</cp:revision>
  <dc:subject/>
  <dc:title>Slide 1</dc:title>
</cp:coreProperties>
</file>