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DFA-EF80-4EFF-A360-F4D2814F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C7E-4BDF-4F46-A6CA-6A46CFC7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F72-F2BE-4346-9652-53A0CF23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3FB-E92A-4C13-94E1-25ADA537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31F-49F1-4E1B-816F-34D8C606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FA3-09C1-4828-8A80-52EB2249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98A-2D93-4E6E-8C39-3B6C602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203-72C3-47D8-9A0D-F58A80B3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F4D-93B7-4C12-B554-55E5C6B1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958-013E-41F5-B2BC-CFF90CF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F88-EE39-4287-887E-70D72BE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20A-5820-44DD-9662-80C2CC30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E7A3-4C96-4940-ABE9-4CCE0A1B1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ка –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имфония чисе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    ,    , ? ,    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,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,   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2771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277164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211640" y="2771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6560" y="277164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279720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    ,    , ? ,    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,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,   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5002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7280" y="350028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211640" y="350028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6560" y="35002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52584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   ,    ,    ,  ? ,    ,    ,    ,    ,  3 ,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36520" y="2195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57240" y="219564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33960" y="2195640"/>
            <a:ext cx="360360" cy="360360"/>
          </a:xfrm>
          <a:prstGeom prst="rect">
            <a:avLst/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84520" y="21970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865240" y="2195640"/>
            <a:ext cx="215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16520" y="21970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602320" y="2195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952880" y="2195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21600" y="2195640"/>
            <a:ext cx="1807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4480" y="222084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4169400">
            <a:off x="1187640" y="3428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357336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57336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436572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342900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4169400">
            <a:off x="1332000" y="620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476280"/>
            <a:ext cx="1440000" cy="26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4169400">
            <a:off x="1187640" y="47592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62064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62064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141300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16360" y="47628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4169400">
            <a:off x="1187640" y="3428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24360" y="357336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357336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436572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6360" y="342900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116000" y="4581360"/>
            <a:ext cx="2664000" cy="122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5373720"/>
            <a:ext cx="1440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98560" y="1268280"/>
            <a:ext cx="2521080" cy="252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1844640"/>
            <a:ext cx="23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292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58920" y="321300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820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8436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272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18200" y="3139920"/>
            <a:ext cx="136980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32000" y="429264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9080" y="429264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4302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24360" y="430200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20000" y="3213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71640" y="227664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4984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820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8436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272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8200" y="3139920"/>
            <a:ext cx="136980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40360" y="2276640"/>
            <a:ext cx="718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08720" y="2276640"/>
            <a:ext cx="718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3213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40360" y="314172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71640" y="314172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00360" y="765000"/>
            <a:ext cx="4319640" cy="4319640"/>
            <a:chOff x="2700360" y="765000"/>
            <a:chExt cx="4319640" cy="4319640"/>
          </a:xfrm>
        </p:grpSpPr>
        <p:sp>
          <p:nvSpPr>
            <p:cNvPr id="375" name=""/>
            <p:cNvSpPr/>
            <p:nvPr/>
          </p:nvSpPr>
          <p:spPr>
            <a:xfrm>
              <a:off x="3419640" y="29257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00720" y="29257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80000" y="292572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964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0072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80000" y="184464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19640" y="76500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00720" y="76500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80000" y="76500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59280" y="328464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40360" y="328464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9640" y="328464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9280" y="220356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40360" y="220356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19640" y="220356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59280" y="11239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40360" y="11239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19640" y="112392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00360" y="364500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364500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61080" y="364500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00360" y="256392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81440" y="256392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61080" y="256392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0360" y="148428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81440" y="148428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61080" y="148428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3640" y="1844640"/>
            <a:ext cx="2736720" cy="2736720"/>
          </a:xfrm>
          <a:prstGeom prst="cube">
            <a:avLst>
              <a:gd name="adj" fmla="val 25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922200" y="3862440"/>
            <a:ext cx="2017800" cy="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924360" y="1844280"/>
            <a:ext cx="0" cy="2017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203640" y="3862440"/>
            <a:ext cx="720720" cy="71892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1844640"/>
            <a:ext cx="2736720" cy="2736720"/>
          </a:xfrm>
          <a:prstGeom prst="cube">
            <a:avLst>
              <a:gd name="adj" fmla="val 25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29840" y="3862440"/>
            <a:ext cx="2017800" cy="144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332000" y="1844280"/>
            <a:ext cx="0" cy="2017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11280" y="3862440"/>
            <a:ext cx="720720" cy="71892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92720" y="220500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3575160"/>
            <a:ext cx="1366920" cy="13665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92720" y="494172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92720" y="83808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59640" y="2206800"/>
            <a:ext cx="1366920" cy="13665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25800" y="220500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65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70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78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116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116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0508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4980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8652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2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9581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4292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2400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0364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4292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2400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364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4292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2400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364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34936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0920" y="3429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4437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1600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9708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1964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11640" y="450864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13080" y="3429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11640" y="234792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8360" y="2276640"/>
            <a:ext cx="38494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2 3 4 5 6 7 9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X 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? ? ? ? ? ? ?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1197000"/>
            <a:ext cx="255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ля в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14920" y="1197000"/>
            <a:ext cx="432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48360" y="2349360"/>
            <a:ext cx="374472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543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548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556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33800" y="4076640"/>
            <a:ext cx="3743280" cy="244800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7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11280" y="33336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4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472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21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5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09308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02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6920" y="47736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2256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5928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092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728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0400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73892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67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836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4144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95280" y="1700280"/>
            <a:ext cx="2160720" cy="2160360"/>
            <a:chOff x="395280" y="1700280"/>
            <a:chExt cx="2160720" cy="2160360"/>
          </a:xfrm>
        </p:grpSpPr>
        <p:sp>
          <p:nvSpPr>
            <p:cNvPr id="599" name=""/>
            <p:cNvSpPr/>
            <p:nvPr/>
          </p:nvSpPr>
          <p:spPr>
            <a:xfrm>
              <a:off x="75492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9564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35640" y="278100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92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9564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5640" y="223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492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64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35640" y="170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456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11564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55280" y="296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456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1564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55280" y="241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456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1564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55280" y="187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528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600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76000" y="314064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528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3600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76000" y="259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528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3600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76000" y="205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24000" y="4221000"/>
            <a:ext cx="2736720" cy="2089440"/>
            <a:chOff x="324000" y="4221000"/>
            <a:chExt cx="2736720" cy="2089440"/>
          </a:xfrm>
        </p:grpSpPr>
        <p:sp>
          <p:nvSpPr>
            <p:cNvPr id="627" name=""/>
            <p:cNvSpPr/>
            <p:nvPr/>
          </p:nvSpPr>
          <p:spPr>
            <a:xfrm>
              <a:off x="324000" y="4221000"/>
              <a:ext cx="27367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2 3 4 5 6 7 9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 X 3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 ? ? ? ? ? ? ?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000" y="4266000"/>
              <a:ext cx="2662200" cy="20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422520" y="4581360"/>
            <a:ext cx="3024360" cy="1377720"/>
            <a:chOff x="3422520" y="4581360"/>
            <a:chExt cx="3024360" cy="1377720"/>
          </a:xfrm>
        </p:grpSpPr>
        <p:sp>
          <p:nvSpPr>
            <p:cNvPr id="630" name=""/>
            <p:cNvSpPr/>
            <p:nvPr/>
          </p:nvSpPr>
          <p:spPr>
            <a:xfrm>
              <a:off x="399348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2252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3176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7040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3284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70400" y="501804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5636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6188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6712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0656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1136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551640" y="2852640"/>
            <a:ext cx="2592000" cy="2316240"/>
            <a:chOff x="6551640" y="2852640"/>
            <a:chExt cx="2592000" cy="2316240"/>
          </a:xfrm>
        </p:grpSpPr>
        <p:sp>
          <p:nvSpPr>
            <p:cNvPr id="643" name=""/>
            <p:cNvSpPr/>
            <p:nvPr/>
          </p:nvSpPr>
          <p:spPr>
            <a:xfrm>
              <a:off x="698364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332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6228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8364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7332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16228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8364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7332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6228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51640" y="28922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5164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1640" y="40305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2324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1292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8000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2000" y="40694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1272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12000" y="28911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563640" y="1844280"/>
            <a:ext cx="1440000" cy="1440360"/>
            <a:chOff x="3563640" y="1844280"/>
            <a:chExt cx="1440000" cy="1440360"/>
          </a:xfrm>
        </p:grpSpPr>
        <p:sp>
          <p:nvSpPr>
            <p:cNvPr id="662" name=""/>
            <p:cNvSpPr/>
            <p:nvPr/>
          </p:nvSpPr>
          <p:spPr>
            <a:xfrm>
              <a:off x="356400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942000" y="2906280"/>
              <a:ext cx="1061280" cy="72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943080" y="1844280"/>
              <a:ext cx="0" cy="10616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563640" y="2906280"/>
              <a:ext cx="379080" cy="3780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5983200" y="1341360"/>
            <a:ext cx="1290600" cy="10764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51560" y="1628640"/>
            <a:ext cx="1613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ПАСИБО, 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К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3800" y="4076640"/>
            <a:ext cx="3743280" cy="244800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33336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2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736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256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092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892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7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144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5280" y="1700280"/>
            <a:ext cx="2160720" cy="2160360"/>
            <a:chOff x="395280" y="1700280"/>
            <a:chExt cx="2160720" cy="2160360"/>
          </a:xfrm>
        </p:grpSpPr>
        <p:sp>
          <p:nvSpPr>
            <p:cNvPr id="121" name=""/>
            <p:cNvSpPr/>
            <p:nvPr/>
          </p:nvSpPr>
          <p:spPr>
            <a:xfrm>
              <a:off x="75492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5640" y="278100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92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64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5640" y="223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492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564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35640" y="170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456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1564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5280" y="296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56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564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55280" y="241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6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564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55280" y="187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28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3600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6000" y="314064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28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600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76000" y="259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28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0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76000" y="205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24000" y="4221000"/>
            <a:ext cx="2736720" cy="2089440"/>
            <a:chOff x="324000" y="4221000"/>
            <a:chExt cx="2736720" cy="2089440"/>
          </a:xfrm>
        </p:grpSpPr>
        <p:sp>
          <p:nvSpPr>
            <p:cNvPr id="149" name=""/>
            <p:cNvSpPr/>
            <p:nvPr/>
          </p:nvSpPr>
          <p:spPr>
            <a:xfrm>
              <a:off x="324000" y="4221000"/>
              <a:ext cx="27367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2 3 4 5 6 7 9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 X 3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 ? ? ? ? ? ? ?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000" y="4266000"/>
              <a:ext cx="2662200" cy="20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22520" y="4581360"/>
            <a:ext cx="3024360" cy="1377720"/>
            <a:chOff x="3422520" y="4581360"/>
            <a:chExt cx="3024360" cy="1377720"/>
          </a:xfrm>
        </p:grpSpPr>
        <p:sp>
          <p:nvSpPr>
            <p:cNvPr id="152" name=""/>
            <p:cNvSpPr/>
            <p:nvPr/>
          </p:nvSpPr>
          <p:spPr>
            <a:xfrm>
              <a:off x="399348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252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176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7040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420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284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0" y="501804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5636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188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6712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656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136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551640" y="2852640"/>
            <a:ext cx="2592000" cy="2316240"/>
            <a:chOff x="6551640" y="2852640"/>
            <a:chExt cx="2592000" cy="2316240"/>
          </a:xfrm>
        </p:grpSpPr>
        <p:sp>
          <p:nvSpPr>
            <p:cNvPr id="165" name=""/>
            <p:cNvSpPr/>
            <p:nvPr/>
          </p:nvSpPr>
          <p:spPr>
            <a:xfrm>
              <a:off x="698364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7332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6228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8364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7332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228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364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7332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6228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1640" y="28922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164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1640" y="40305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324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1292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8000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12000" y="40694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1272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712000" y="28911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63640" y="1844280"/>
            <a:ext cx="1440000" cy="1440360"/>
            <a:chOff x="3563640" y="1844280"/>
            <a:chExt cx="1440000" cy="1440360"/>
          </a:xfrm>
        </p:grpSpPr>
        <p:sp>
          <p:nvSpPr>
            <p:cNvPr id="184" name=""/>
            <p:cNvSpPr/>
            <p:nvPr/>
          </p:nvSpPr>
          <p:spPr>
            <a:xfrm>
              <a:off x="356400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42000" y="2906280"/>
              <a:ext cx="1061280" cy="72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943080" y="1844280"/>
              <a:ext cx="0" cy="10616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63640" y="2906280"/>
              <a:ext cx="379080" cy="3780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983200" y="1341360"/>
            <a:ext cx="1290600" cy="10764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1560" y="1628640"/>
            <a:ext cx="1613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214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219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227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856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98560" y="126828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62200" y="213372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2997360"/>
            <a:ext cx="863640" cy="8632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86244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8800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38920" y="1268280"/>
            <a:ext cx="2305080" cy="2305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2421000"/>
            <a:ext cx="23050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10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9856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98560" y="126828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2200" y="213372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2997360"/>
            <a:ext cx="863640" cy="8632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0920" y="386244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38920" y="1268280"/>
            <a:ext cx="2305080" cy="2305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2421000"/>
            <a:ext cx="23050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10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95280" y="2573280"/>
            <a:ext cx="8229600" cy="1143000"/>
            <a:chOff x="395280" y="2573280"/>
            <a:chExt cx="8229600" cy="1143000"/>
          </a:xfrm>
        </p:grpSpPr>
        <p:sp>
          <p:nvSpPr>
            <p:cNvPr id="279" name=""/>
            <p:cNvSpPr/>
            <p:nvPr/>
          </p:nvSpPr>
          <p:spPr>
            <a:xfrm>
              <a:off x="395280" y="25732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2160" y="299556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2880" y="299556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89240" y="299556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0160" y="2997360"/>
              <a:ext cx="18072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20880" y="29955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72160" y="2997360"/>
              <a:ext cx="18108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457600" y="299556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808520" y="29955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6880" y="29955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302112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7-08-10T09:36:47Z</dcterms:modified>
  <cp:revision>46</cp:revision>
  <dc:subject/>
  <dc:title>Slide 1</dc:title>
</cp:coreProperties>
</file>