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FBD-083D-41DB-ACBF-44A0F94A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22F-C405-49B8-A8C4-A73DFDE1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A0F-3D64-4DB9-8F0D-7304E6DB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A7E-B7EA-4A69-9977-765AAE71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348-94DF-4EE9-B318-DD1B18D9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052-8B2E-4378-A43B-BD7CDBF9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C48-F6CA-47C3-9477-58D17854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8FD-EE2F-40E7-84AA-39503BA2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05B-0D3C-4FF8-A639-85B05719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6E6-2502-4891-8CA5-0517A01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AF6-16D4-48AF-8224-A25457B1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8A0-BCCD-4508-A470-A10CD9E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AE62-1770-4ED7-B2CC-9B09AFB10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УРОК: Си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УРОК: Си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1873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Иде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говор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чтоб я т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крат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997360"/>
            <a:ext cx="1368360" cy="215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720" y="1700280"/>
            <a:ext cx="216036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Лейтмоти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Я верю в си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м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1628640"/>
            <a:ext cx="396108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троение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1. Басня – её особ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2. Слушаем бас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3. Обсуждаем бас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4. Случаи из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5. Мы познаем мудр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6. Творческое пись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cc0066"/>
                </a:solidFill>
                <a:latin typeface="Arial"/>
              </a:rPr>
              <a:t>Наставления самому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7. Чем я обогатился на уро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Басня – её 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24000" y="1628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рат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Мор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ерсон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животные, птицы, люд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Слушаем басн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016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Мы вдумчи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слуш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197000"/>
            <a:ext cx="2016000" cy="7920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1341360"/>
            <a:ext cx="3672000" cy="5032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13372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дружились мужик и медведь. Пригласил мужик медведя к себе в гости. Прощаясь, медведь поцеловал мужика, а заодно, по его просьбе, и жену мужика, Почуяв вонь медведя, женщина выплюнула и сказ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 по душе мне вонючий го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рошло время. Мужик пошел в лес. Он навестил медведя, захватив с собой топор, чтобы нарубить дров на зиму, Друзья обменялись любезностями, а потом медведь стал треб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Ударь меня топором по голов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ужик отказывался. Медведь настаивал, упорствовал. Под конец мужик ударил медведя топором по голове и разбил ему голо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едведь побрёл в лес, а мужик – домой. Спустя месяц они встрети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У медведя рана зажила. И он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Брат мой, разбитая топором голова зажила, а сердце, раненое языком твоей жены, -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6165720"/>
            <a:ext cx="48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66"/>
                </a:solidFill>
                <a:uFillTx/>
                <a:latin typeface="Arial"/>
              </a:rPr>
              <a:t>Предложите свое название бас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Обсуждаем бас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0000" y="1557360"/>
            <a:ext cx="440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Вопросы и м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случаи из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Вопросы учеников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3789360"/>
            <a:ext cx="749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бъяснил ли мужик своей жене, какой ужасный поступ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на соверши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очему медведь после оскорбления не нанес жене отве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ый уд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очему сердечная рана заживает так мучительно,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равнению  с телесной ра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Мы познаем мудр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456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Язык мой – враг 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режде           рыщ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беду ищ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2060640"/>
            <a:ext cx="72072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06864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алкой можно б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оранить тело, а з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413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Леопард бере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вои когти, муд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человек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276640"/>
            <a:ext cx="503280" cy="21564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2276640"/>
            <a:ext cx="720720" cy="21744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2924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олная бутылка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лещется, наполов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устая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789360"/>
            <a:ext cx="165744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4221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У короткого ум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724280"/>
            <a:ext cx="127476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4724280"/>
            <a:ext cx="91440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542772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полните пустые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окомментируйте муд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Творческое письмо</a:t>
            </a:r>
            <a:br>
              <a:rPr sz="40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аставления самому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68000" y="1628280"/>
            <a:ext cx="49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Моя речь должна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2276640"/>
            <a:ext cx="4464360" cy="28872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85264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342900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4005360"/>
            <a:ext cx="4464360" cy="28872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458136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5734080"/>
            <a:ext cx="4464360" cy="28872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15772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595008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…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6165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…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Чем меня обогатил урок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«Сила Слов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382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Заговори, чтоб я тебя уви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91080" y="1557360"/>
            <a:ext cx="430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Я верю в силу пламенного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256536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Язык мой – враг 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ежде  ума  рыщ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беду ищ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256536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Леопард  береж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вои когти, мудр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человек  - свой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530064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 короткого ума – длинный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86064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алкой можно бо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ранить тело, а з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лова проникают в ду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8624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лная бутылка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ещется, наполов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устая - бульк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пасибо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Пусть будет ваша 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красивой, доброй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отзывчи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4:47:08Z</dcterms:created>
  <dc:creator>Vladimir</dc:creator>
  <dc:description/>
  <dc:language>en-US</dc:language>
  <cp:lastModifiedBy>Vladimir</cp:lastModifiedBy>
  <dcterms:modified xsi:type="dcterms:W3CDTF">2008-11-29T19:52:30Z</dcterms:modified>
  <cp:revision>11</cp:revision>
  <dc:subject/>
  <dc:title>УРОК: Сила Слова</dc:title>
</cp:coreProperties>
</file>