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2861-8E29-4C18-A7AE-9DF2BC05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0C32-CF2B-4B8D-AD2D-654042F75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C9A8-A16E-4A2D-B7C4-E9170D14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6F5-B62A-4AED-BD40-82EE7049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090-C61D-420C-85DA-BAD5C12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19E-F232-4100-9D64-E02F5F31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33D-AB9E-4E44-8DF1-29533D8D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CA0-3F60-4BAC-91AF-E09F60C6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220-69C2-4157-84B0-8D35A5BC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B65-B1EB-492A-88AF-EB94AB16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54C-87A3-46E8-B170-5E056ED7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18A-0202-4B2B-B327-55E53EBA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9A6-6577-42F0-B606-B439531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B6B-49C5-4348-8617-4030CFE7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0EF-E763-4E06-839B-D5DA462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693F-4E37-4F7E-B346-C10C3371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четвер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четвер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Мощь и 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Shalva Amaonashvili</cp:lastModifiedBy>
  <dcterms:modified xsi:type="dcterms:W3CDTF">2008-08-16T12:41:22Z</dcterms:modified>
  <cp:revision>119</cp:revision>
  <dc:subject/>
  <dc:title>Slide 1</dc:title>
</cp:coreProperties>
</file>