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D805-578C-4556-A78D-26B3C01E4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47F5-8B33-4C90-9D82-805458507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01A1-05B5-4670-94B8-953D4EF91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4AF1-A46F-4543-9177-A2F8C873C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F29B-6CB5-4F3C-8C3D-7A6B83369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EB56-F8BF-4DC6-8ABE-97AE86672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F578-57A2-4064-AD90-E6B598395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9BE4-F2B8-4BE5-9F02-F139C4AB1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B8EE-775F-4BC9-B03E-026FF8472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8C50-D603-494F-80FA-FFAA6AB7B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4C01-0132-450E-A90C-F9DDA1109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F502-7016-4286-8C52-FDD632C2F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5AE1-3EF6-4B99-9177-BA41150A1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8B84-8F06-496D-B0A4-BBDF39B21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A775-3A02-490D-9574-CA8472377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04B6-C0FC-4A9E-9359-2E981F89A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E21C-FC70-4889-BDCA-E6FA997E3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D414-F4A5-43EF-8FFF-D7A56669F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F45C-73B6-4CB8-9B3E-442C5428E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9BF5-C932-4284-AB1F-D8C184F07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F42E-C7BF-43F8-BBD2-3E27E7F17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1697-5E07-4A24-83A2-7B5F91D32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B785-B424-4A07-ADC3-113725D81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69A6-E028-4820-BF91-91BE59158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2E34-A522-4006-ABA7-656BA78F9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E658-0998-44A4-B3FC-3ABEFB21D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2C16-F0B4-46CD-8203-8AF289392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565-C8E8-4120-B0CB-8B17311E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58E0-5633-4DB5-866F-65D8F9A8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FB4-4B5B-41CE-AAAE-FF6A42AE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19B-F66D-4ABC-9A4D-54120D55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D36-0040-438C-8587-56588CF5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C25-DC09-4D73-BAC0-082608EA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583-9FDA-4EA6-9D20-F0F5186D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873-DF09-4758-B5FA-1F12AC39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C95-08D3-4CEC-8007-1CFE1582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0596-64EA-431F-9331-03C93204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37B-AD37-43C3-AF1F-170D5822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1BD-F9A8-4CA4-AB77-F6796250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BCAB-F81B-4241-9E21-7BE2D12A7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первы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i.jpeg"/>
          <p:cNvPicPr/>
          <p:nvPr/>
        </p:nvPicPr>
        <p:blipFill>
          <a:blip r:embed="rId1"/>
          <a:stretch/>
        </p:blipFill>
        <p:spPr>
          <a:xfrm>
            <a:off x="6178680" y="2629080"/>
            <a:ext cx="2127240" cy="377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kvintilian.gif"/>
          <p:cNvPicPr/>
          <p:nvPr/>
        </p:nvPicPr>
        <p:blipFill>
          <a:blip r:embed="rId2"/>
          <a:stretch/>
        </p:blipFill>
        <p:spPr>
          <a:xfrm>
            <a:off x="457200" y="2666880"/>
            <a:ext cx="4191120" cy="3581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Допущения гуманной педагогики</a:t>
            </a: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510552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Бессмертие Дух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его устремленность к совершенств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876920" y="5105520"/>
            <a:ext cx="426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Земная жизнь – отрезок пути совершенств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3352680" y="1219320"/>
            <a:ext cx="5791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еальность Высшего Мира, Мира Духовного,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4114800" y="26668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342900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487692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Допущения гуманной педагогики</a:t>
            </a: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510552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Бессмертие Дух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его устремленность к совершенств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4876920" y="5105520"/>
            <a:ext cx="426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Земная жизнь – отрезок пути совершенств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352680" y="1219320"/>
            <a:ext cx="5791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еальность Высшего Мира, Мира Духовного,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2895480" y="2354400"/>
            <a:ext cx="2819520" cy="27511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4114800" y="26668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342900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"/>
          <p:cNvSpPr/>
          <p:nvPr/>
        </p:nvSpPr>
        <p:spPr>
          <a:xfrm>
            <a:off x="487692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sosceles Triangle 3"/>
          <p:cNvSpPr/>
          <p:nvPr/>
        </p:nvSpPr>
        <p:spPr>
          <a:xfrm>
            <a:off x="2438280" y="220968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 rot="17980800">
            <a:off x="1223280" y="3588480"/>
            <a:ext cx="39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Я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уховная суть ребен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sosceles Triangle 3"/>
          <p:cNvSpPr/>
          <p:nvPr/>
        </p:nvSpPr>
        <p:spPr>
          <a:xfrm>
            <a:off x="2438280" y="220968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 rot="17980800">
            <a:off x="1223280" y="3588480"/>
            <a:ext cx="39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Я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 rot="3564000">
            <a:off x="3853440" y="3740400"/>
            <a:ext cx="392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Ми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уховная суть ребен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sosceles Triangle 3"/>
          <p:cNvSpPr/>
          <p:nvPr/>
        </p:nvSpPr>
        <p:spPr>
          <a:xfrm>
            <a:off x="2438280" y="220968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 rot="17980800">
            <a:off x="1223280" y="3588480"/>
            <a:ext cx="39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Я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 rot="3564000">
            <a:off x="3853440" y="3740400"/>
            <a:ext cx="392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Ми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514600" y="5715000"/>
            <a:ext cx="39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Энергия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уховная суть ребен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3"/>
          <p:cNvSpPr/>
          <p:nvPr/>
        </p:nvSpPr>
        <p:spPr>
          <a:xfrm rot="10800000">
            <a:off x="2438280" y="220932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 rot="3558000">
            <a:off x="1295280" y="3839760"/>
            <a:ext cx="392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Природа в ребен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sosceles Triangle 3"/>
          <p:cNvSpPr/>
          <p:nvPr/>
        </p:nvSpPr>
        <p:spPr>
          <a:xfrm rot="10800000">
            <a:off x="2438280" y="220932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 rot="3558000">
            <a:off x="1295280" y="3839760"/>
            <a:ext cx="392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 rot="18030000">
            <a:off x="3764520" y="3930840"/>
            <a:ext cx="392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Взро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Природа в ребен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sosceles Triangle 3"/>
          <p:cNvSpPr/>
          <p:nvPr/>
        </p:nvSpPr>
        <p:spPr>
          <a:xfrm rot="10800000">
            <a:off x="2438280" y="220932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 rot="3558000">
            <a:off x="1295280" y="3839760"/>
            <a:ext cx="392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 rot="18030000">
            <a:off x="3764520" y="3930840"/>
            <a:ext cx="392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Взро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2514600" y="1752480"/>
            <a:ext cx="39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Своб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Природа в ребен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ущность ребенка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sosceles Triangle 3"/>
          <p:cNvSpPr/>
          <p:nvPr/>
        </p:nvSpPr>
        <p:spPr>
          <a:xfrm rot="10800000">
            <a:off x="2438280" y="2590920"/>
            <a:ext cx="4114800" cy="3504960"/>
          </a:xfrm>
          <a:prstGeom prst="triangle">
            <a:avLst>
              <a:gd name="adj" fmla="val 50000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sosceles Triangle 7"/>
          <p:cNvSpPr/>
          <p:nvPr/>
        </p:nvSpPr>
        <p:spPr>
          <a:xfrm>
            <a:off x="2438280" y="1447920"/>
            <a:ext cx="4114800" cy="3504960"/>
          </a:xfrm>
          <a:prstGeom prst="triangle">
            <a:avLst>
              <a:gd name="adj" fmla="val 50000"/>
            </a:avLst>
          </a:prstGeom>
          <a:solidFill>
            <a:srgbClr val="0000ff">
              <a:alpha val="40000"/>
            </a:srgbClr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3276720" y="2654280"/>
            <a:ext cx="2355840" cy="2298600"/>
            <a:chOff x="3276720" y="2654280"/>
            <a:chExt cx="2355840" cy="2298600"/>
          </a:xfrm>
        </p:grpSpPr>
        <p:sp>
          <p:nvSpPr>
            <p:cNvPr id="153" name="Oval 8"/>
            <p:cNvSpPr/>
            <p:nvPr/>
          </p:nvSpPr>
          <p:spPr>
            <a:xfrm>
              <a:off x="3276720" y="2654280"/>
              <a:ext cx="2355840" cy="22986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4295880" y="291456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0"/>
            <p:cNvSpPr/>
            <p:nvPr/>
          </p:nvSpPr>
          <p:spPr>
            <a:xfrm>
              <a:off x="3722760" y="406080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"/>
            <p:cNvSpPr/>
            <p:nvPr/>
          </p:nvSpPr>
          <p:spPr>
            <a:xfrm>
              <a:off x="4932720" y="406080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entagon 13"/>
          <p:cNvSpPr/>
          <p:nvPr/>
        </p:nvSpPr>
        <p:spPr>
          <a:xfrm>
            <a:off x="533520" y="91440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457200" y="91440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вездное небо: Квинтилиан, Коменский, Корчак, Сухомлински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tagon 15"/>
          <p:cNvSpPr/>
          <p:nvPr/>
        </p:nvSpPr>
        <p:spPr>
          <a:xfrm>
            <a:off x="533520" y="2666880"/>
            <a:ext cx="8229600" cy="12956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57200" y="2666880"/>
            <a:ext cx="7696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етодическая служба: Управление, Норма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entagon 17"/>
          <p:cNvSpPr/>
          <p:nvPr/>
        </p:nvSpPr>
        <p:spPr>
          <a:xfrm>
            <a:off x="533520" y="441972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57200" y="441972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кольная жизнь, пр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первы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6600"/>
                </a:solidFill>
                <a:latin typeface="Arial"/>
              </a:rPr>
              <a:t>Наша душа небесного происхожд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i.jpeg"/>
          <p:cNvPicPr/>
          <p:nvPr/>
        </p:nvPicPr>
        <p:blipFill>
          <a:blip r:embed="rId1"/>
          <a:stretch/>
        </p:blipFill>
        <p:spPr>
          <a:xfrm>
            <a:off x="7556400" y="3886200"/>
            <a:ext cx="1435320" cy="2546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-457200" y="922032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-1135080" y="944892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entagon 13"/>
          <p:cNvSpPr/>
          <p:nvPr/>
        </p:nvSpPr>
        <p:spPr>
          <a:xfrm>
            <a:off x="533520" y="91440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457200" y="91440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вездное небо: Квинтилиан, Коменский, Корчак, Сухомлински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entagon 15"/>
          <p:cNvSpPr/>
          <p:nvPr/>
        </p:nvSpPr>
        <p:spPr>
          <a:xfrm>
            <a:off x="533520" y="2666880"/>
            <a:ext cx="8229600" cy="12956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57200" y="2666880"/>
            <a:ext cx="7696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етодическая служба: Управление, Норма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entagon 17"/>
          <p:cNvSpPr/>
          <p:nvPr/>
        </p:nvSpPr>
        <p:spPr>
          <a:xfrm>
            <a:off x="533520" y="441972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457200" y="441972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кольная жизнь, пр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loud 11"/>
          <p:cNvSpPr/>
          <p:nvPr/>
        </p:nvSpPr>
        <p:spPr>
          <a:xfrm>
            <a:off x="533520" y="2133720"/>
            <a:ext cx="121896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loud 12"/>
          <p:cNvSpPr/>
          <p:nvPr/>
        </p:nvSpPr>
        <p:spPr>
          <a:xfrm>
            <a:off x="1905120" y="2133720"/>
            <a:ext cx="121896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loud 19"/>
          <p:cNvSpPr/>
          <p:nvPr/>
        </p:nvSpPr>
        <p:spPr>
          <a:xfrm>
            <a:off x="3276720" y="2133720"/>
            <a:ext cx="121896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loud 20"/>
          <p:cNvSpPr/>
          <p:nvPr/>
        </p:nvSpPr>
        <p:spPr>
          <a:xfrm>
            <a:off x="4572000" y="2133720"/>
            <a:ext cx="121932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loud 21"/>
          <p:cNvSpPr/>
          <p:nvPr/>
        </p:nvSpPr>
        <p:spPr>
          <a:xfrm>
            <a:off x="5943600" y="2133720"/>
            <a:ext cx="121932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wn Arrow 22"/>
          <p:cNvSpPr/>
          <p:nvPr/>
        </p:nvSpPr>
        <p:spPr>
          <a:xfrm>
            <a:off x="137160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own Arrow 23"/>
          <p:cNvSpPr/>
          <p:nvPr/>
        </p:nvSpPr>
        <p:spPr>
          <a:xfrm>
            <a:off x="2209680" y="3809880"/>
            <a:ext cx="60984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wn Arrow 24"/>
          <p:cNvSpPr/>
          <p:nvPr/>
        </p:nvSpPr>
        <p:spPr>
          <a:xfrm>
            <a:off x="3124080" y="3809880"/>
            <a:ext cx="60984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Down Arrow 25"/>
          <p:cNvSpPr/>
          <p:nvPr/>
        </p:nvSpPr>
        <p:spPr>
          <a:xfrm>
            <a:off x="396252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own Arrow 26"/>
          <p:cNvSpPr/>
          <p:nvPr/>
        </p:nvSpPr>
        <p:spPr>
          <a:xfrm>
            <a:off x="480060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own Arrow 27"/>
          <p:cNvSpPr/>
          <p:nvPr/>
        </p:nvSpPr>
        <p:spPr>
          <a:xfrm>
            <a:off x="571500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own Arrow 28"/>
          <p:cNvSpPr/>
          <p:nvPr/>
        </p:nvSpPr>
        <p:spPr>
          <a:xfrm>
            <a:off x="647712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own Arrow 29"/>
          <p:cNvSpPr/>
          <p:nvPr/>
        </p:nvSpPr>
        <p:spPr>
          <a:xfrm>
            <a:off x="731520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Arrow 30"/>
          <p:cNvSpPr/>
          <p:nvPr/>
        </p:nvSpPr>
        <p:spPr>
          <a:xfrm>
            <a:off x="609480" y="3809880"/>
            <a:ext cx="60984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loud 31"/>
          <p:cNvSpPr/>
          <p:nvPr/>
        </p:nvSpPr>
        <p:spPr>
          <a:xfrm>
            <a:off x="7315200" y="2133720"/>
            <a:ext cx="121932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entagon 13"/>
          <p:cNvSpPr/>
          <p:nvPr/>
        </p:nvSpPr>
        <p:spPr>
          <a:xfrm>
            <a:off x="533520" y="91440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91440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вездное небо: Квинтилиан, Коменский, Корчак, Сухомлински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entagon 17"/>
          <p:cNvSpPr/>
          <p:nvPr/>
        </p:nvSpPr>
        <p:spPr>
          <a:xfrm>
            <a:off x="533520" y="441972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57200" y="441972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кольная жизнь, пр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ight Arrow 8"/>
          <p:cNvSpPr/>
          <p:nvPr/>
        </p:nvSpPr>
        <p:spPr>
          <a:xfrm rot="3893400">
            <a:off x="690120" y="321804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Arrow 9"/>
          <p:cNvSpPr/>
          <p:nvPr/>
        </p:nvSpPr>
        <p:spPr>
          <a:xfrm rot="17598000">
            <a:off x="690480" y="319896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Arrow 12"/>
          <p:cNvSpPr/>
          <p:nvPr/>
        </p:nvSpPr>
        <p:spPr>
          <a:xfrm rot="3893400">
            <a:off x="2807640" y="321804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ight Arrow 19"/>
          <p:cNvSpPr/>
          <p:nvPr/>
        </p:nvSpPr>
        <p:spPr>
          <a:xfrm rot="17598000">
            <a:off x="2808000" y="319896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ight Arrow 20"/>
          <p:cNvSpPr/>
          <p:nvPr/>
        </p:nvSpPr>
        <p:spPr>
          <a:xfrm rot="3893400">
            <a:off x="4865040" y="321804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ight Arrow 21"/>
          <p:cNvSpPr/>
          <p:nvPr/>
        </p:nvSpPr>
        <p:spPr>
          <a:xfrm rot="17598000">
            <a:off x="4865400" y="319896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Школа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25909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61645"/>
                </a:solidFill>
                <a:latin typeface="Arial"/>
              </a:rPr>
              <a:t>Лат. </a:t>
            </a:r>
            <a:r>
              <a:rPr b="0" lang="en-US" sz="6000" spc="-1" strike="noStrike">
                <a:solidFill>
                  <a:srgbClr val="161645"/>
                </a:solidFill>
                <a:latin typeface="Arial"/>
              </a:rPr>
              <a:t>SK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0" y="495288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Лестница духовного восхожд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hevron 4"/>
          <p:cNvSpPr/>
          <p:nvPr/>
        </p:nvSpPr>
        <p:spPr>
          <a:xfrm rot="5400000">
            <a:off x="4038480" y="1981080"/>
            <a:ext cx="1067040" cy="6098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lnTo>
                  <a:pt x="6171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qual 5"/>
          <p:cNvSpPr/>
          <p:nvPr/>
        </p:nvSpPr>
        <p:spPr>
          <a:xfrm>
            <a:off x="4038480" y="3962520"/>
            <a:ext cx="990720" cy="761760"/>
          </a:xfrm>
          <a:prstGeom prst="pi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9907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ЧИТЕ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3124080"/>
            <a:ext cx="9144000" cy="18288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Ч</a:t>
            </a: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итель,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Ч</a:t>
            </a: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еник,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Ч</a:t>
            </a: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ение, об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Ч</a:t>
            </a: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ение, и т.д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 = Ура = Аура, Огонь, Свет, Логос, Жизнь, Мудрость, Бо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21337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 = Чело = Душа, Созн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4495680"/>
            <a:ext cx="9144000" cy="17528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уша, носитель 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0" y="21337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В-ОС-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4495680"/>
            <a:ext cx="9144000" cy="17528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итание Духовной О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рок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276720" y="2590920"/>
            <a:ext cx="25146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61645"/>
                </a:solidFill>
                <a:latin typeface="Arial"/>
              </a:rPr>
              <a:t>У+Р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51055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рок = основа жизни, модель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hevron 4"/>
          <p:cNvSpPr/>
          <p:nvPr/>
        </p:nvSpPr>
        <p:spPr>
          <a:xfrm rot="5400000">
            <a:off x="4038480" y="1981080"/>
            <a:ext cx="1067040" cy="6098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lnTo>
                  <a:pt x="6171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qual 5"/>
          <p:cNvSpPr/>
          <p:nvPr/>
        </p:nvSpPr>
        <p:spPr>
          <a:xfrm>
            <a:off x="4038480" y="3962520"/>
            <a:ext cx="990720" cy="761760"/>
          </a:xfrm>
          <a:prstGeom prst="pi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5486400" y="3733920"/>
            <a:ext cx="3657600" cy="9144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45"/>
                </a:solidFill>
                <a:latin typeface="Arial"/>
              </a:rPr>
              <a:t>У=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45"/>
                </a:solidFill>
                <a:latin typeface="Arial"/>
              </a:rPr>
              <a:t>Рок=удар судь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2819520" cy="7621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ума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23623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an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= смертный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4267080"/>
            <a:ext cx="9144000" cy="23623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УМАННЫЙ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мертный человек, ищущий в себе бессмертие, связь с высшим; человек, познающий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00400" y="0"/>
            <a:ext cx="2819520" cy="7621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u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6095880" y="0"/>
            <a:ext cx="2819520" cy="7621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u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hevron 8"/>
          <p:cNvSpPr/>
          <p:nvPr/>
        </p:nvSpPr>
        <p:spPr>
          <a:xfrm>
            <a:off x="2743200" y="152280"/>
            <a:ext cx="990720" cy="533520"/>
          </a:xfrm>
          <a:custGeom>
            <a:avLst/>
            <a:gdLst>
              <a:gd name="textAreaLeft" fmla="*/ 0 w 990720"/>
              <a:gd name="textAreaRight" fmla="*/ 991080 w 9907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85" y="0"/>
                </a:lnTo>
                <a:lnTo>
                  <a:pt x="21600" y="10800"/>
                </a:lnTo>
                <a:lnTo>
                  <a:pt x="15785" y="21600"/>
                </a:lnTo>
                <a:lnTo>
                  <a:pt x="0" y="21600"/>
                </a:lnTo>
                <a:lnTo>
                  <a:pt x="5815" y="10800"/>
                </a:lnTo>
                <a:close/>
              </a:path>
            </a:pathLst>
          </a:cu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hevron 9"/>
          <p:cNvSpPr/>
          <p:nvPr/>
        </p:nvSpPr>
        <p:spPr>
          <a:xfrm>
            <a:off x="5486400" y="152280"/>
            <a:ext cx="990720" cy="533520"/>
          </a:xfrm>
          <a:custGeom>
            <a:avLst/>
            <a:gdLst>
              <a:gd name="textAreaLeft" fmla="*/ 0 w 990720"/>
              <a:gd name="textAreaRight" fmla="*/ 991080 w 9907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85" y="0"/>
                </a:lnTo>
                <a:lnTo>
                  <a:pt x="21600" y="10800"/>
                </a:lnTo>
                <a:lnTo>
                  <a:pt x="15785" y="21600"/>
                </a:lnTo>
                <a:lnTo>
                  <a:pt x="0" y="21600"/>
                </a:lnTo>
                <a:lnTo>
                  <a:pt x="5815" y="10800"/>
                </a:lnTo>
                <a:close/>
              </a:path>
            </a:pathLst>
          </a:cu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590920" y="1295280"/>
            <a:ext cx="1295280" cy="7621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4419720" y="1295280"/>
            <a:ext cx="2819160" cy="7621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=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hevron 12"/>
          <p:cNvSpPr/>
          <p:nvPr/>
        </p:nvSpPr>
        <p:spPr>
          <a:xfrm>
            <a:off x="3886200" y="1447920"/>
            <a:ext cx="990720" cy="533160"/>
          </a:xfrm>
          <a:custGeom>
            <a:avLst/>
            <a:gdLst>
              <a:gd name="textAreaLeft" fmla="*/ 0 w 990720"/>
              <a:gd name="textAreaRight" fmla="*/ 991080 w 9907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85" y="0"/>
                </a:lnTo>
                <a:lnTo>
                  <a:pt x="21600" y="10800"/>
                </a:lnTo>
                <a:lnTo>
                  <a:pt x="15785" y="21600"/>
                </a:lnTo>
                <a:lnTo>
                  <a:pt x="0" y="21600"/>
                </a:lnTo>
                <a:lnTo>
                  <a:pt x="5815" y="10800"/>
                </a:lnTo>
                <a:close/>
              </a:path>
            </a:pathLst>
          </a:cu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«Будьте же исполнители слова, а не слушатели только, обманывающие самих себя»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(Иак. 1,22)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для размышл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Есть у Вас какое-либо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философск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ение о Ребенке? Нуждаетесь ли Вы в такой философ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кой Вы есть Учитель (родитель, воспитатель, профессор, руководитель, начальник…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торитарный, властный, требовательный, строгий, справедливый, гуманный, демократичный, добрый, радостный, грубый, хмурый, с юмором, без юмор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уществуют три типа учителей: те, которы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бъясня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те, которы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жалу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те, которы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дохновля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 какому типу учителей Вы себя причисля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Начитанный ли Вы Учитель в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фере педагогической класс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философии? психологии? методи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тремитесь ли Вы к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ово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ыту, к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ов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дагогическим идея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еред кем Вы чувствует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тветствен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 свой педагогический тру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сли для анали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 Матфея Святое Благове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8.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то время ученики приступили к Иисусу и сказали: кто больше в Царстве Небесн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исус, призвав дитя, поставил его перед н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казал: Истинно говорю вам, если не обратитесь и не будете как дети, не войдете в Царство Небес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так, кто умалится, как это дитя, тот и больше в Царстве Небесн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кто примет одного такого дитя во имя Мое, тот и Меня принима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 кто соблазнит одного из малых сих, верующих в Меня, тому лучше было бы, если бы повесили ему мельничный жернов на шею и потопили бы во глубине морск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мотрите, не презирайте ни одного из малых сих, ибо Говорю вам, ангелы их на небесах всегда видят лице Отца Моего Небесног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так, нет воли Отца вашего Небесного, чтобы погиб один из малых с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ab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152280" y="1371600"/>
            <a:ext cx="4114800" cy="4267080"/>
          </a:xfrm>
          <a:prstGeom prst="ellipse">
            <a:avLst/>
          </a:prstGeom>
          <a:solidFill>
            <a:srgbClr val="fff53b"/>
          </a:solid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iped Right Arrow 5"/>
          <p:cNvSpPr/>
          <p:nvPr/>
        </p:nvSpPr>
        <p:spPr>
          <a:xfrm rot="19546800">
            <a:off x="2634840" y="1282320"/>
            <a:ext cx="2001960" cy="23184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7452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343400" y="304920"/>
            <a:ext cx="4648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Чувство веры – Религиозн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343400" y="1600200"/>
            <a:ext cx="4648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0"/>
                </a:solidFill>
                <a:latin typeface="Arial"/>
              </a:rPr>
              <a:t>Родительское чувство – Педагогическ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43400" y="2971800"/>
            <a:ext cx="4648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Чувство познания – Научно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Философск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191120" y="4343400"/>
            <a:ext cx="464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0"/>
                </a:solidFill>
                <a:latin typeface="Arial"/>
              </a:rPr>
              <a:t>Чувство красоты – Эстетическ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114800" y="5638680"/>
            <a:ext cx="4648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Чувство совести – Этическ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iped Right Arrow 12"/>
          <p:cNvSpPr/>
          <p:nvPr/>
        </p:nvSpPr>
        <p:spPr>
          <a:xfrm rot="20397000">
            <a:off x="3181320" y="2378160"/>
            <a:ext cx="1154160" cy="25092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6606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iped Right Arrow 14"/>
          <p:cNvSpPr/>
          <p:nvPr/>
        </p:nvSpPr>
        <p:spPr>
          <a:xfrm>
            <a:off x="3276720" y="3273480"/>
            <a:ext cx="1676160" cy="23184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iped Right Arrow 16"/>
          <p:cNvSpPr/>
          <p:nvPr/>
        </p:nvSpPr>
        <p:spPr>
          <a:xfrm rot="770400">
            <a:off x="3212640" y="4195440"/>
            <a:ext cx="1154160" cy="25092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4632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iped Right Arrow 17"/>
          <p:cNvSpPr/>
          <p:nvPr/>
        </p:nvSpPr>
        <p:spPr>
          <a:xfrm rot="2347800">
            <a:off x="2720520" y="5334120"/>
            <a:ext cx="2001960" cy="23148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3054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9"/>
          <p:cNvGrpSpPr/>
          <p:nvPr/>
        </p:nvGrpSpPr>
        <p:grpSpPr>
          <a:xfrm>
            <a:off x="297000" y="762120"/>
            <a:ext cx="4351320" cy="2743200"/>
            <a:chOff x="297000" y="762120"/>
            <a:chExt cx="4351320" cy="2743200"/>
          </a:xfrm>
        </p:grpSpPr>
        <p:sp>
          <p:nvSpPr>
            <p:cNvPr id="76" name="Straight Connector 92"/>
            <p:cNvSpPr/>
            <p:nvPr/>
          </p:nvSpPr>
          <p:spPr>
            <a:xfrm flipV="1">
              <a:off x="639720" y="1214280"/>
              <a:ext cx="4008600" cy="229104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94"/>
            <p:cNvSpPr/>
            <p:nvPr/>
          </p:nvSpPr>
          <p:spPr>
            <a:xfrm>
              <a:off x="2930760" y="2703600"/>
              <a:ext cx="228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5"/>
            <p:cNvSpPr/>
            <p:nvPr/>
          </p:nvSpPr>
          <p:spPr>
            <a:xfrm>
              <a:off x="297000" y="2708640"/>
              <a:ext cx="5940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A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5"/>
            <p:cNvSpPr/>
            <p:nvPr/>
          </p:nvSpPr>
          <p:spPr>
            <a:xfrm>
              <a:off x="3846960" y="762120"/>
              <a:ext cx="5940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B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5"/>
            <p:cNvSpPr/>
            <p:nvPr/>
          </p:nvSpPr>
          <p:spPr>
            <a:xfrm>
              <a:off x="2930760" y="2937600"/>
              <a:ext cx="594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8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2" descr="PseudoSphere.jpg"/>
          <p:cNvPicPr/>
          <p:nvPr/>
        </p:nvPicPr>
        <p:blipFill>
          <a:blip r:embed="rId1"/>
          <a:stretch/>
        </p:blipFill>
        <p:spPr>
          <a:xfrm>
            <a:off x="5410080" y="1511280"/>
            <a:ext cx="2514600" cy="283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7899480" y="152388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6172200" y="99072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севдосфера Лобач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8001000" y="3657600"/>
            <a:ext cx="1143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cc"/>
                </a:solidFill>
                <a:latin typeface="Arial"/>
              </a:rPr>
              <a:t>Николай Иванович Лобачевск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cc"/>
                </a:solidFill>
                <a:latin typeface="Arial"/>
              </a:rPr>
              <a:t>1792-185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7"/>
          <p:cNvGrpSpPr/>
          <p:nvPr/>
        </p:nvGrpSpPr>
        <p:grpSpPr>
          <a:xfrm>
            <a:off x="297000" y="762120"/>
            <a:ext cx="4351320" cy="2743200"/>
            <a:chOff x="297000" y="762120"/>
            <a:chExt cx="4351320" cy="2743200"/>
          </a:xfrm>
        </p:grpSpPr>
        <p:sp>
          <p:nvSpPr>
            <p:cNvPr id="88" name="Straight Connector 28"/>
            <p:cNvSpPr/>
            <p:nvPr/>
          </p:nvSpPr>
          <p:spPr>
            <a:xfrm flipV="1">
              <a:off x="639720" y="1214280"/>
              <a:ext cx="4008600" cy="229104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9"/>
            <p:cNvSpPr/>
            <p:nvPr/>
          </p:nvSpPr>
          <p:spPr>
            <a:xfrm>
              <a:off x="2930760" y="2703600"/>
              <a:ext cx="228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5"/>
            <p:cNvSpPr/>
            <p:nvPr/>
          </p:nvSpPr>
          <p:spPr>
            <a:xfrm>
              <a:off x="297000" y="2708640"/>
              <a:ext cx="5940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A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5"/>
            <p:cNvSpPr/>
            <p:nvPr/>
          </p:nvSpPr>
          <p:spPr>
            <a:xfrm>
              <a:off x="3846960" y="762120"/>
              <a:ext cx="5940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B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5"/>
            <p:cNvSpPr/>
            <p:nvPr/>
          </p:nvSpPr>
          <p:spPr>
            <a:xfrm>
              <a:off x="2930760" y="2937600"/>
              <a:ext cx="594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Допущения гуманной педагогики</a:t>
            </a: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352680" y="1219320"/>
            <a:ext cx="5791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еальность Высшего Мира, Мира Духовного,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4114800" y="26668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342900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487692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Допущения гуманной педагогики</a:t>
            </a: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352680" y="1219320"/>
            <a:ext cx="5791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еальность Высшего Мира, Мира Духовного,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510552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Бессмертие Дух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его устремленность к совершенств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4114800" y="26668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342900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487692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2:56:25Z</dcterms:created>
  <dc:creator>paata</dc:creator>
  <dc:description/>
  <dc:language>en-US</dc:language>
  <cp:lastModifiedBy>Shalva Amaonashvili</cp:lastModifiedBy>
  <dcterms:modified xsi:type="dcterms:W3CDTF">2009-02-18T18:02:45Z</dcterms:modified>
  <cp:revision>111</cp:revision>
  <dc:subject/>
  <dc:title>Slide 1</dc:title>
</cp:coreProperties>
</file>