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C03-F0FB-4521-87DC-E8F2D518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433-3B73-4D6C-B5EC-DAEF942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616-DDA4-4A09-BEDE-00463A5A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3DC-E5D4-4748-A924-4F4DDDC9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7AB-AAFD-4EC9-BA09-05CF287A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14A-8298-4BA3-AA30-D15A27A3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56A-E756-4809-A4E8-1E0FC7A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E32-4ED6-49D2-B83B-ED71189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BFF-AD42-45C7-8519-4E9AD513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8D8-1B64-4E11-AEE0-6671401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899-DE96-4C4C-8A2A-AECB2D0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92C-F1E1-4C41-9418-9638AEF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53C-9758-4A44-8F97-4024FFF8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ердце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117360"/>
            <a:ext cx="381636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ГИМН О ЛЮБВ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я говорю языкам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еловеческими и ангельским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– медь звенящая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ли кимвол звучащ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имею дар пророчеств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ю все тайны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имею всякое познани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всю веру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 что могу и горы переставлять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не имею любв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ничт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если я раздам всё имение моё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дам тело на сожжени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т мне в этом никакой пользы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долготерп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лосерд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завид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превозноси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гордится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930920" y="1440"/>
            <a:ext cx="41050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бесчин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ищет своего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здража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мыслит зл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дуется неправд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сорадуется истин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окрыва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му вер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го наде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ереноси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икогда не перестаё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отя и пропрочества прекратя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языки умолкну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ние упразднится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бо мы отчасти знаем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части пророчествуем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гда же наступит совершенно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гда то, что отчасти, прекратится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теперь пребывают три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а, Надежда, Любовь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 Любовь из них больше..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ог есть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 rot="10800000">
            <a:off x="1331640" y="333360"/>
            <a:ext cx="6264360" cy="6524640"/>
          </a:xfrm>
          <a:prstGeom prst="verticalScroll">
            <a:avLst>
              <a:gd name="adj" fmla="val 12500"/>
            </a:avLst>
          </a:prstGeom>
          <a:solidFill>
            <a:srgbClr val="a1f4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411280" y="1120680"/>
            <a:ext cx="4248360" cy="4108680"/>
          </a:xfrm>
          <a:custGeom>
            <a:avLst/>
            <a:gdLst>
              <a:gd name="textAreaLeft" fmla="*/ 990720 w 4248360"/>
              <a:gd name="textAreaRight" fmla="*/ 3256560 w 4248360"/>
              <a:gd name="textAreaTop" fmla="*/ 433080 h 4108680"/>
              <a:gd name="textAreaBottom" fmla="*/ 2601720 h 4108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bd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08000" y="404640"/>
            <a:ext cx="50421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СПОДИ!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руй мне Сердце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лобив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рую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я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щедр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стойное вместилищ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бя Всеблагого!</a:t>
            </a:r>
            <a:br>
              <a:rPr sz="2400"/>
            </a:br>
            <a:br>
              <a:rPr sz="24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СВЯТОЙ ПРАВЕДНИК </a:t>
            </a:r>
            <a:br>
              <a:rPr sz="16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ИОАНН КРОНШТАД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Пусть будет в Сердце моем чист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6920" y="117360"/>
            <a:ext cx="7848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УДРОСТЬ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любит цветы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устремление ввысь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чисто мыслит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о Мирах Высших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готов к беспредельности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191772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ff"/>
                </a:solidFill>
                <a:uFillTx/>
                <a:latin typeface="Arial"/>
              </a:rPr>
              <a:t>СПАСИБО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5280" y="693720"/>
            <a:ext cx="86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ужно дать Сердцу постоянную работу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2-14T07:04:06Z</dcterms:modified>
  <cp:revision>124</cp:revision>
  <dc:subject/>
  <dc:title>Slide 1</dc:title>
</cp:coreProperties>
</file>