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C26F9-4BEC-488C-AC47-324BF2924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7335B-3FE6-4CB0-99B1-1FCEC60EC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94CA8-E40D-4F9F-AD0C-6B276C8F5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4D7F5-B078-49EE-B250-8FE079D5F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004C-987C-49E0-92F8-9E97B8628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1B52-0920-40EC-8BB6-D30CACB16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9939-B910-4390-8F87-87D20DC5D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1A39-8A42-45DD-806B-05B45D605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0C44-555E-4A4B-8E52-86C1F120D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EA91-9DDF-4A2A-894E-3E8B9A789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00AC-D718-4DBE-93FB-C1714BC9E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38BD-A870-44A0-9112-A2FF0B1C4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B038-20D2-42F8-9B69-7923C147B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3E3A-8DE6-425A-937F-D003235E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F8A5-E952-4BDE-B659-CDD21580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2FFA-4734-4159-A70A-B5854F43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954EF-8372-4846-9E71-03708B56E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nashdom.shkola@mail.ru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День пятый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2438280"/>
            <a:ext cx="9144000" cy="198144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«Мы соработники у Бога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m_26753.jpg"/>
          <p:cNvPicPr/>
          <p:nvPr/>
        </p:nvPicPr>
        <p:blipFill>
          <a:blip r:embed="rId1"/>
          <a:stretch/>
        </p:blipFill>
        <p:spPr>
          <a:xfrm>
            <a:off x="380880" y="228600"/>
            <a:ext cx="1738440" cy="2133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220px-Johan_amos_comenius_1592-1671.jpg"/>
          <p:cNvPicPr/>
          <p:nvPr/>
        </p:nvPicPr>
        <p:blipFill>
          <a:blip r:embed="rId2"/>
          <a:stretch/>
        </p:blipFill>
        <p:spPr>
          <a:xfrm>
            <a:off x="6934320" y="360360"/>
            <a:ext cx="1768320" cy="2001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200px-Janusz_Korczak.PNG"/>
          <p:cNvPicPr/>
          <p:nvPr/>
        </p:nvPicPr>
        <p:blipFill>
          <a:blip r:embed="rId3"/>
          <a:stretch/>
        </p:blipFill>
        <p:spPr>
          <a:xfrm>
            <a:off x="762120" y="3581280"/>
            <a:ext cx="1352520" cy="2151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images.jpeg"/>
          <p:cNvPicPr/>
          <p:nvPr/>
        </p:nvPicPr>
        <p:blipFill>
          <a:blip r:embed="rId4"/>
          <a:stretch/>
        </p:blipFill>
        <p:spPr>
          <a:xfrm>
            <a:off x="7010280" y="3657600"/>
            <a:ext cx="1473480" cy="2117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180px-Makarenko.jpg"/>
          <p:cNvPicPr/>
          <p:nvPr/>
        </p:nvPicPr>
        <p:blipFill>
          <a:blip r:embed="rId5"/>
          <a:stretch/>
        </p:blipFill>
        <p:spPr>
          <a:xfrm>
            <a:off x="2590920" y="4495680"/>
            <a:ext cx="1447560" cy="2082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Johann_Heinrich_Pestalozzi.jpg"/>
          <p:cNvPicPr/>
          <p:nvPr/>
        </p:nvPicPr>
        <p:blipFill>
          <a:blip r:embed="rId6"/>
          <a:stretch/>
        </p:blipFill>
        <p:spPr>
          <a:xfrm>
            <a:off x="5003640" y="4495680"/>
            <a:ext cx="1397160" cy="20685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457200" y="11592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просы для размышлени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250920" y="836640"/>
            <a:ext cx="864216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рл Роджерс: вопросы самому себ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ею ли я входить во внутренний мир человека, который учится и взрослеет? Смог лия личностно, эмоционально откликнуться на это ми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ею ли я позволить самому себе быть личностью и строить открытые, эмоционально насыщенные, не ролевые взаимоотношения с моими учениками; отношения, в которых все учатс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мею ли я обнаружить интересы каждого в моем классе и смогу ли позволить ему или ей следовать этим индивидуальным интересам, куда бы они не вел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могу ли я помочь моим ученикам сохранить живой интерес, любопытство по отношению к самому себе, к миру, который их окружает, - сохранить и поддерживать самое дорогое, чем обладает челове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мог бы я помочь ребенку расти целостным человеком, чувства которого порождают идеи, а идеи чувств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457200" y="11592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ысли для анализ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765000"/>
            <a:ext cx="9144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Януш Корч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«Воспитатель, котор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не сковывает, а освобождае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не подавляет, а возноси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не комкает, а развивае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не диктует, а учи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не требует, а спрашивает,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переживет вместе с ребенком много вдохновляющих минут, не раз следуя увлаженным взором за борьбой ангела с сатаною, где светлый ангел побеждает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1042920" y="765000"/>
            <a:ext cx="7201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такт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дрес: Амурская область, город Благовещенск, ул. Чехова, 5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лефон: 33-23-73, 33-47-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йт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kola-nash-dom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та: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ashdom.shkola@mail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йт гуманной педагогик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umannaja-pedagogika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йт Издательского до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. Амонашви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zdatamon.narod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6T10:56:26Z</dcterms:created>
  <dc:creator>paata</dc:creator>
  <dc:description/>
  <dc:language>en-US</dc:language>
  <cp:lastModifiedBy>User</cp:lastModifiedBy>
  <dcterms:modified xsi:type="dcterms:W3CDTF">2013-01-15T05:02:07Z</dcterms:modified>
  <cp:revision>126</cp:revision>
  <dc:subject/>
  <dc:title>Slide 1</dc:title>
</cp:coreProperties>
</file>