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7C6-275B-48DD-B20F-2241EDA1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A20-AB7A-42F3-B959-80646F65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E7F-33B5-4E64-8B9C-DA36E20B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160-C85D-4343-9245-6A567CCD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A1E-779A-4C99-8151-495F7E94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75C-0548-44CC-AF69-F490D224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B7A3-0211-4BF4-A130-B2698BD3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CEE-02C9-49CA-AA7B-EFEA3C26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54E-72AE-4434-B821-DC5AC34C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E0E-9BC9-408B-98BB-B2FC42E7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1A6-BDF3-481C-8C2B-B089527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171-21C7-456A-96F3-0063991F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BE26-4046-46E9-B7FA-5AA706256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Мудрореч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29EF-D403-46CD-91D3-E304C252A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runebi"/>
          <p:cNvPicPr/>
          <p:nvPr/>
        </p:nvPicPr>
        <p:blipFill>
          <a:blip r:embed="rId1"/>
          <a:stretch/>
        </p:blipFill>
        <p:spPr>
          <a:xfrm>
            <a:off x="1281240" y="0"/>
            <a:ext cx="66038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358920" y="431640"/>
            <a:ext cx="68400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8174160" y="1655640"/>
            <a:ext cx="934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у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391F-B906-4795-906F-68E4CC079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runebi2"/>
          <p:cNvPicPr/>
          <p:nvPr/>
        </p:nvPicPr>
        <p:blipFill>
          <a:blip r:embed="rId1"/>
          <a:stretch/>
        </p:blipFill>
        <p:spPr>
          <a:xfrm>
            <a:off x="2305080" y="0"/>
            <a:ext cx="45338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5"/>
          <p:cNvSpPr/>
          <p:nvPr/>
        </p:nvSpPr>
        <p:spPr>
          <a:xfrm>
            <a:off x="2771640" y="646200"/>
            <a:ext cx="4032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    У    Д    Р   О   С   Т   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2700360" y="1725480"/>
            <a:ext cx="3600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   О    В   Е   С   Т   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2627280" y="2662200"/>
            <a:ext cx="4032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   Е   С   Т  Н  О   С   Т   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700360" y="3670200"/>
            <a:ext cx="2592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  Ю  Б  О  В  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2627280" y="4605480"/>
            <a:ext cx="280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  О   Б  Р О  Т 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2629080" y="5686560"/>
            <a:ext cx="2879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  Е   Р  Д   Ц   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3780000" y="6381720"/>
            <a:ext cx="1152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 А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9B15-40DC-4226-9BCB-B26DB7686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250920" y="333360"/>
            <a:ext cx="331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режём муд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95280" y="1341360"/>
            <a:ext cx="237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сли веришь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68360" y="1773360"/>
            <a:ext cx="2087640" cy="360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95280" y="2133720"/>
            <a:ext cx="23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р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539640" y="3284640"/>
            <a:ext cx="3384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лнце всех солнц есть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1403280" y="3787920"/>
            <a:ext cx="208764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3564000" y="406440"/>
            <a:ext cx="367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воя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есть твоя извес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4500720" y="404640"/>
            <a:ext cx="2087280" cy="360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611280" y="5086440"/>
            <a:ext cx="367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есть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Царица Неба и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4"/>
          <p:cNvSpPr/>
          <p:nvPr/>
        </p:nvSpPr>
        <p:spPr>
          <a:xfrm>
            <a:off x="682560" y="5084640"/>
            <a:ext cx="208764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132000" y="1773360"/>
            <a:ext cx="424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Живи по                             – </a:t>
            </a:r>
            <a:br>
              <a:rPr sz="2400"/>
            </a:b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минуешь гор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4572000" y="1771560"/>
            <a:ext cx="2089080" cy="36036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4572000" y="3429000"/>
            <a:ext cx="39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воя красота –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твоей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5940360" y="3860640"/>
            <a:ext cx="2087640" cy="360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4716360" y="5014800"/>
            <a:ext cx="367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Где                                -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ам 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5653080" y="5013360"/>
            <a:ext cx="2087640" cy="360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7704000" y="260280"/>
            <a:ext cx="1440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в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дц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DCC1-1248-42F1-BE7B-D4BD228D0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250920" y="333360"/>
            <a:ext cx="331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режём муд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39640" y="1341360"/>
            <a:ext cx="237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сли веришь –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юбов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539640" y="2133720"/>
            <a:ext cx="23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р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539640" y="3284640"/>
            <a:ext cx="3384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лнце всех солнц есть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4572000" y="334800"/>
            <a:ext cx="367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воя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честность 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есть твоя извес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684360" y="5086440"/>
            <a:ext cx="367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Мудрость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есть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Царица Неба и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4572000" y="1701720"/>
            <a:ext cx="42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Живи по  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совести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– </a:t>
            </a:r>
            <a:br>
              <a:rPr sz="2400"/>
            </a:b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минуешь гор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4643280" y="3429000"/>
            <a:ext cx="39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воя красота –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твоей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доброт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4788000" y="5014800"/>
            <a:ext cx="367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Где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лад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-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ам 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158B-0AE0-4663-8A84-281FCCC92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318960" y="1219320"/>
            <a:ext cx="3461040" cy="2124000"/>
          </a:xfrm>
          <a:custGeom>
            <a:avLst/>
            <a:gdLst>
              <a:gd name="textAreaLeft" fmla="*/ 0 w 3461040"/>
              <a:gd name="textAreaRight" fmla="*/ 3461400 w 3461040"/>
              <a:gd name="textAreaTop" fmla="*/ 0 h 2124000"/>
              <a:gd name="textAreaBottom" fmla="*/ 2124360 h 212400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684360" y="1434960"/>
            <a:ext cx="21589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еугольны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кам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5"/>
          <p:cNvSpPr/>
          <p:nvPr/>
        </p:nvSpPr>
        <p:spPr>
          <a:xfrm>
            <a:off x="306360" y="1397160"/>
            <a:ext cx="1457280" cy="1912680"/>
          </a:xfrm>
          <a:custGeom>
            <a:avLst/>
            <a:gdLst>
              <a:gd name="textAreaLeft" fmla="*/ 0 w 1457280"/>
              <a:gd name="textAreaRight" fmla="*/ 1457640 w 145728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6"/>
          <p:cNvSpPr/>
          <p:nvPr/>
        </p:nvSpPr>
        <p:spPr>
          <a:xfrm>
            <a:off x="4960800" y="1093680"/>
            <a:ext cx="3211560" cy="197172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eafe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5191200" y="1190520"/>
            <a:ext cx="21175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ософски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к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8"/>
          <p:cNvSpPr/>
          <p:nvPr/>
        </p:nvSpPr>
        <p:spPr>
          <a:xfrm>
            <a:off x="4948200" y="1266840"/>
            <a:ext cx="1352520" cy="1774800"/>
          </a:xfrm>
          <a:custGeom>
            <a:avLst/>
            <a:gdLst>
              <a:gd name="textAreaLeft" fmla="*/ 0 w 1352520"/>
              <a:gd name="textAreaRight" fmla="*/ 1352880 w 135252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9"/>
          <p:cNvSpPr/>
          <p:nvPr/>
        </p:nvSpPr>
        <p:spPr>
          <a:xfrm>
            <a:off x="561960" y="3595680"/>
            <a:ext cx="3249720" cy="1994040"/>
          </a:xfrm>
          <a:custGeom>
            <a:avLst/>
            <a:gdLst>
              <a:gd name="textAreaLeft" fmla="*/ 0 w 3249720"/>
              <a:gd name="textAreaRight" fmla="*/ 3250080 w 3249720"/>
              <a:gd name="textAreaTop" fmla="*/ 0 h 1994040"/>
              <a:gd name="textAreaBottom" fmla="*/ 1994400 h 199404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a0ee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835200" y="3736800"/>
            <a:ext cx="29098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ен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претк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538200" y="3768840"/>
            <a:ext cx="1369800" cy="1798560"/>
          </a:xfrm>
          <a:custGeom>
            <a:avLst/>
            <a:gdLst>
              <a:gd name="textAreaLeft" fmla="*/ 0 w 1369800"/>
              <a:gd name="textAreaRight" fmla="*/ 1370160 w 136980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2"/>
          <p:cNvSpPr/>
          <p:nvPr/>
        </p:nvSpPr>
        <p:spPr>
          <a:xfrm>
            <a:off x="5033880" y="3397320"/>
            <a:ext cx="2995560" cy="2479680"/>
          </a:xfrm>
          <a:custGeom>
            <a:avLst/>
            <a:gdLst>
              <a:gd name="textAreaLeft" fmla="*/ 0 w 2995560"/>
              <a:gd name="textAreaRight" fmla="*/ 2995920 w 2995560"/>
              <a:gd name="textAreaTop" fmla="*/ 0 h 2479680"/>
              <a:gd name="textAreaBottom" fmla="*/ 2480040 h 247968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fed2f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3"/>
          <p:cNvSpPr/>
          <p:nvPr/>
        </p:nvSpPr>
        <p:spPr>
          <a:xfrm>
            <a:off x="5087880" y="3541680"/>
            <a:ext cx="1357200" cy="229068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2290680"/>
              <a:gd name="textAreaBottom" fmla="*/ 2291040 h 2290680"/>
            </a:gdLst>
            <a:ahLst/>
            <a:rect l="textAreaLeft" t="textAreaTop" r="textAreaRight" b="textAreaBottom"/>
            <a:pathLst>
              <a:path w="1142" h="1928">
                <a:moveTo>
                  <a:pt x="0" y="37"/>
                </a:moveTo>
                <a:cubicBezTo>
                  <a:pt x="61" y="52"/>
                  <a:pt x="110" y="91"/>
                  <a:pt x="132" y="157"/>
                </a:cubicBezTo>
                <a:cubicBezTo>
                  <a:pt x="136" y="169"/>
                  <a:pt x="136" y="183"/>
                  <a:pt x="144" y="193"/>
                </a:cubicBezTo>
                <a:cubicBezTo>
                  <a:pt x="161" y="214"/>
                  <a:pt x="192" y="221"/>
                  <a:pt x="216" y="229"/>
                </a:cubicBezTo>
                <a:cubicBezTo>
                  <a:pt x="232" y="307"/>
                  <a:pt x="242" y="328"/>
                  <a:pt x="288" y="397"/>
                </a:cubicBezTo>
                <a:cubicBezTo>
                  <a:pt x="296" y="409"/>
                  <a:pt x="307" y="419"/>
                  <a:pt x="312" y="433"/>
                </a:cubicBezTo>
                <a:cubicBezTo>
                  <a:pt x="320" y="457"/>
                  <a:pt x="336" y="505"/>
                  <a:pt x="336" y="505"/>
                </a:cubicBezTo>
                <a:cubicBezTo>
                  <a:pt x="350" y="1008"/>
                  <a:pt x="295" y="796"/>
                  <a:pt x="384" y="997"/>
                </a:cubicBezTo>
                <a:cubicBezTo>
                  <a:pt x="414" y="1065"/>
                  <a:pt x="404" y="1087"/>
                  <a:pt x="468" y="1129"/>
                </a:cubicBezTo>
                <a:cubicBezTo>
                  <a:pt x="476" y="1141"/>
                  <a:pt x="482" y="1155"/>
                  <a:pt x="492" y="1165"/>
                </a:cubicBezTo>
                <a:cubicBezTo>
                  <a:pt x="502" y="1175"/>
                  <a:pt x="519" y="1178"/>
                  <a:pt x="528" y="1189"/>
                </a:cubicBezTo>
                <a:cubicBezTo>
                  <a:pt x="570" y="1237"/>
                  <a:pt x="591" y="1288"/>
                  <a:pt x="636" y="1333"/>
                </a:cubicBezTo>
                <a:cubicBezTo>
                  <a:pt x="648" y="1369"/>
                  <a:pt x="660" y="1405"/>
                  <a:pt x="672" y="1441"/>
                </a:cubicBezTo>
                <a:cubicBezTo>
                  <a:pt x="676" y="1453"/>
                  <a:pt x="673" y="1470"/>
                  <a:pt x="684" y="1477"/>
                </a:cubicBezTo>
                <a:cubicBezTo>
                  <a:pt x="708" y="1493"/>
                  <a:pt x="732" y="1509"/>
                  <a:pt x="756" y="1525"/>
                </a:cubicBezTo>
                <a:cubicBezTo>
                  <a:pt x="768" y="1533"/>
                  <a:pt x="792" y="1549"/>
                  <a:pt x="792" y="1549"/>
                </a:cubicBezTo>
                <a:cubicBezTo>
                  <a:pt x="800" y="1561"/>
                  <a:pt x="811" y="1571"/>
                  <a:pt x="816" y="1585"/>
                </a:cubicBezTo>
                <a:cubicBezTo>
                  <a:pt x="824" y="1609"/>
                  <a:pt x="818" y="1674"/>
                  <a:pt x="852" y="1693"/>
                </a:cubicBezTo>
                <a:cubicBezTo>
                  <a:pt x="870" y="1703"/>
                  <a:pt x="892" y="1701"/>
                  <a:pt x="912" y="1705"/>
                </a:cubicBezTo>
                <a:cubicBezTo>
                  <a:pt x="924" y="1740"/>
                  <a:pt x="922" y="1811"/>
                  <a:pt x="948" y="1837"/>
                </a:cubicBezTo>
                <a:cubicBezTo>
                  <a:pt x="957" y="1846"/>
                  <a:pt x="973" y="1843"/>
                  <a:pt x="984" y="1849"/>
                </a:cubicBezTo>
                <a:cubicBezTo>
                  <a:pt x="1142" y="1928"/>
                  <a:pt x="754" y="1862"/>
                  <a:pt x="732" y="1861"/>
                </a:cubicBezTo>
                <a:cubicBezTo>
                  <a:pt x="688" y="1832"/>
                  <a:pt x="651" y="1814"/>
                  <a:pt x="600" y="1801"/>
                </a:cubicBezTo>
                <a:cubicBezTo>
                  <a:pt x="483" y="1723"/>
                  <a:pt x="400" y="1760"/>
                  <a:pt x="228" y="1753"/>
                </a:cubicBezTo>
                <a:cubicBezTo>
                  <a:pt x="183" y="1708"/>
                  <a:pt x="161" y="1656"/>
                  <a:pt x="108" y="1621"/>
                </a:cubicBezTo>
                <a:cubicBezTo>
                  <a:pt x="12" y="1477"/>
                  <a:pt x="78" y="1365"/>
                  <a:pt x="84" y="1153"/>
                </a:cubicBezTo>
                <a:cubicBezTo>
                  <a:pt x="80" y="1017"/>
                  <a:pt x="78" y="881"/>
                  <a:pt x="72" y="745"/>
                </a:cubicBezTo>
                <a:cubicBezTo>
                  <a:pt x="69" y="681"/>
                  <a:pt x="54" y="625"/>
                  <a:pt x="36" y="565"/>
                </a:cubicBezTo>
                <a:cubicBezTo>
                  <a:pt x="29" y="541"/>
                  <a:pt x="12" y="493"/>
                  <a:pt x="12" y="493"/>
                </a:cubicBezTo>
                <a:cubicBezTo>
                  <a:pt x="8" y="369"/>
                  <a:pt x="0" y="245"/>
                  <a:pt x="0" y="121"/>
                </a:cubicBezTo>
                <a:cubicBezTo>
                  <a:pt x="0" y="0"/>
                  <a:pt x="38" y="187"/>
                  <a:pt x="0" y="37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5508720" y="3757680"/>
            <a:ext cx="21175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шебны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5869080" y="2125800"/>
            <a:ext cx="23032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ердце ум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1619280" y="4649760"/>
            <a:ext cx="2160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еньги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не пах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9"/>
          <p:cNvSpPr/>
          <p:nvPr/>
        </p:nvSpPr>
        <p:spPr>
          <a:xfrm>
            <a:off x="1547640" y="2200320"/>
            <a:ext cx="20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Бог есть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1"/>
          <p:cNvSpPr/>
          <p:nvPr/>
        </p:nvSpPr>
        <p:spPr>
          <a:xfrm>
            <a:off x="5869080" y="4549680"/>
            <a:ext cx="208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пеши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творить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до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179280" y="4428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cc"/>
                </a:solidFill>
                <a:uFillTx/>
                <a:latin typeface="Arial"/>
              </a:rPr>
              <a:t>Парк Академ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B343-A6FB-4FE0-88DC-41464590D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"/>
          <p:cNvSpPr/>
          <p:nvPr/>
        </p:nvSpPr>
        <p:spPr>
          <a:xfrm rot="10800000">
            <a:off x="1763640" y="549000"/>
            <a:ext cx="5832720" cy="5472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43280" y="765000"/>
            <a:ext cx="39607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им муд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2700360" y="1846440"/>
            <a:ext cx="3960720" cy="30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Горы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Забота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Радость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Руч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d2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пасибо,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удрец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8FCC-67BB-49C0-8367-98E7976B0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201"/>
          <p:cNvSpPr/>
          <p:nvPr/>
        </p:nvSpPr>
        <p:spPr>
          <a:xfrm>
            <a:off x="7451640" y="283356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1439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93"/>
          <p:cNvSpPr/>
          <p:nvPr/>
        </p:nvSpPr>
        <p:spPr>
          <a:xfrm>
            <a:off x="3560760" y="968400"/>
            <a:ext cx="2025720" cy="197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4"/>
          <p:cNvSpPr/>
          <p:nvPr/>
        </p:nvSpPr>
        <p:spPr>
          <a:xfrm>
            <a:off x="4152960" y="8190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6"/>
          <p:cNvSpPr/>
          <p:nvPr/>
        </p:nvSpPr>
        <p:spPr>
          <a:xfrm>
            <a:off x="3560760" y="106668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7"/>
          <p:cNvSpPr/>
          <p:nvPr/>
        </p:nvSpPr>
        <p:spPr>
          <a:xfrm>
            <a:off x="3313080" y="160956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98"/>
          <p:cNvSpPr/>
          <p:nvPr/>
        </p:nvSpPr>
        <p:spPr>
          <a:xfrm>
            <a:off x="3411360" y="2252520"/>
            <a:ext cx="44640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99"/>
          <p:cNvSpPr/>
          <p:nvPr/>
        </p:nvSpPr>
        <p:spPr>
          <a:xfrm>
            <a:off x="3905280" y="26971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0"/>
          <p:cNvSpPr/>
          <p:nvPr/>
        </p:nvSpPr>
        <p:spPr>
          <a:xfrm>
            <a:off x="4548240" y="274644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01"/>
          <p:cNvSpPr/>
          <p:nvPr/>
        </p:nvSpPr>
        <p:spPr>
          <a:xfrm>
            <a:off x="5140440" y="25002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2"/>
          <p:cNvSpPr/>
          <p:nvPr/>
        </p:nvSpPr>
        <p:spPr>
          <a:xfrm>
            <a:off x="5338800" y="185724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3"/>
          <p:cNvSpPr/>
          <p:nvPr/>
        </p:nvSpPr>
        <p:spPr>
          <a:xfrm>
            <a:off x="5241960" y="131436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4"/>
          <p:cNvSpPr/>
          <p:nvPr/>
        </p:nvSpPr>
        <p:spPr>
          <a:xfrm>
            <a:off x="4795920" y="8701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5"/>
          <p:cNvSpPr/>
          <p:nvPr/>
        </p:nvSpPr>
        <p:spPr>
          <a:xfrm>
            <a:off x="5291280" y="1270080"/>
            <a:ext cx="395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6"/>
          <p:cNvSpPr/>
          <p:nvPr/>
        </p:nvSpPr>
        <p:spPr>
          <a:xfrm>
            <a:off x="4824360" y="838080"/>
            <a:ext cx="3970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7"/>
          <p:cNvSpPr/>
          <p:nvPr/>
        </p:nvSpPr>
        <p:spPr>
          <a:xfrm>
            <a:off x="4176720" y="765000"/>
            <a:ext cx="395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9"/>
          <p:cNvSpPr/>
          <p:nvPr/>
        </p:nvSpPr>
        <p:spPr>
          <a:xfrm>
            <a:off x="3600360" y="1054080"/>
            <a:ext cx="3952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0"/>
          <p:cNvSpPr/>
          <p:nvPr/>
        </p:nvSpPr>
        <p:spPr>
          <a:xfrm>
            <a:off x="3313080" y="162576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1"/>
          <p:cNvSpPr/>
          <p:nvPr/>
        </p:nvSpPr>
        <p:spPr>
          <a:xfrm>
            <a:off x="3462480" y="220680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2"/>
          <p:cNvSpPr/>
          <p:nvPr/>
        </p:nvSpPr>
        <p:spPr>
          <a:xfrm>
            <a:off x="5400720" y="184644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5184720" y="249408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4573440" y="277812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Ч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5"/>
          <p:cNvSpPr/>
          <p:nvPr/>
        </p:nvSpPr>
        <p:spPr>
          <a:xfrm>
            <a:off x="3956040" y="2709720"/>
            <a:ext cx="395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6"/>
          <p:cNvSpPr/>
          <p:nvPr/>
        </p:nvSpPr>
        <p:spPr>
          <a:xfrm>
            <a:off x="3906720" y="1362240"/>
            <a:ext cx="1335240" cy="1236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4"/>
          <p:cNvSpPr/>
          <p:nvPr/>
        </p:nvSpPr>
        <p:spPr>
          <a:xfrm>
            <a:off x="395280" y="189000"/>
            <a:ext cx="1295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  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5"/>
          <p:cNvSpPr/>
          <p:nvPr/>
        </p:nvSpPr>
        <p:spPr>
          <a:xfrm>
            <a:off x="395280" y="18900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6"/>
          <p:cNvSpPr/>
          <p:nvPr/>
        </p:nvSpPr>
        <p:spPr>
          <a:xfrm>
            <a:off x="971640" y="765000"/>
            <a:ext cx="0" cy="288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78"/>
          <p:cNvSpPr/>
          <p:nvPr/>
        </p:nvSpPr>
        <p:spPr>
          <a:xfrm>
            <a:off x="395280" y="189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79"/>
          <p:cNvSpPr/>
          <p:nvPr/>
        </p:nvSpPr>
        <p:spPr>
          <a:xfrm>
            <a:off x="971640" y="76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0"/>
          <p:cNvSpPr/>
          <p:nvPr/>
        </p:nvSpPr>
        <p:spPr>
          <a:xfrm>
            <a:off x="1690560" y="1890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2"/>
          <p:cNvSpPr/>
          <p:nvPr/>
        </p:nvSpPr>
        <p:spPr>
          <a:xfrm>
            <a:off x="971640" y="907920"/>
            <a:ext cx="2017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кра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тон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фуц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зоп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фаг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4"/>
          <p:cNvSpPr/>
          <p:nvPr/>
        </p:nvSpPr>
        <p:spPr>
          <a:xfrm>
            <a:off x="5938920" y="189000"/>
            <a:ext cx="29541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Блажен человек,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торый сниска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УДРОСТЬ»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МУДРОСТЬ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учше жемчуга».</a:t>
            </a:r>
            <a:br>
              <a:rPr sz="2400"/>
            </a:b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Библ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1"/>
          <p:cNvSpPr/>
          <p:nvPr/>
        </p:nvSpPr>
        <p:spPr>
          <a:xfrm>
            <a:off x="395280" y="36450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86"/>
          <p:cNvSpPr/>
          <p:nvPr/>
        </p:nvSpPr>
        <p:spPr>
          <a:xfrm>
            <a:off x="1546200" y="36972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87"/>
          <p:cNvSpPr/>
          <p:nvPr/>
        </p:nvSpPr>
        <p:spPr>
          <a:xfrm>
            <a:off x="2914560" y="32083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88"/>
          <p:cNvSpPr/>
          <p:nvPr/>
        </p:nvSpPr>
        <p:spPr>
          <a:xfrm>
            <a:off x="4138560" y="3927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89"/>
          <p:cNvSpPr/>
          <p:nvPr/>
        </p:nvSpPr>
        <p:spPr>
          <a:xfrm>
            <a:off x="5722920" y="3495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90"/>
          <p:cNvSpPr/>
          <p:nvPr/>
        </p:nvSpPr>
        <p:spPr>
          <a:xfrm>
            <a:off x="7091280" y="3927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2"/>
          <p:cNvSpPr/>
          <p:nvPr/>
        </p:nvSpPr>
        <p:spPr>
          <a:xfrm>
            <a:off x="1617840" y="376884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3"/>
          <p:cNvSpPr/>
          <p:nvPr/>
        </p:nvSpPr>
        <p:spPr>
          <a:xfrm>
            <a:off x="2986200" y="327960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4"/>
          <p:cNvSpPr/>
          <p:nvPr/>
        </p:nvSpPr>
        <p:spPr>
          <a:xfrm>
            <a:off x="4210200" y="400068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5"/>
          <p:cNvSpPr/>
          <p:nvPr/>
        </p:nvSpPr>
        <p:spPr>
          <a:xfrm>
            <a:off x="5796000" y="356868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6"/>
          <p:cNvSpPr/>
          <p:nvPr/>
        </p:nvSpPr>
        <p:spPr>
          <a:xfrm>
            <a:off x="7162920" y="400068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8"/>
          <p:cNvSpPr/>
          <p:nvPr/>
        </p:nvSpPr>
        <p:spPr>
          <a:xfrm>
            <a:off x="8028000" y="39337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9"/>
          <p:cNvSpPr/>
          <p:nvPr/>
        </p:nvSpPr>
        <p:spPr>
          <a:xfrm>
            <a:off x="7597800" y="290664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2"/>
          <p:cNvSpPr/>
          <p:nvPr/>
        </p:nvSpPr>
        <p:spPr>
          <a:xfrm>
            <a:off x="8099280" y="4005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3"/>
          <p:cNvSpPr/>
          <p:nvPr/>
        </p:nvSpPr>
        <p:spPr>
          <a:xfrm>
            <a:off x="1187280" y="4869000"/>
            <a:ext cx="86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щ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4"/>
          <p:cNvSpPr/>
          <p:nvPr/>
        </p:nvSpPr>
        <p:spPr>
          <a:xfrm>
            <a:off x="900000" y="5300640"/>
            <a:ext cx="1440000" cy="37296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5"/>
          <p:cNvSpPr/>
          <p:nvPr/>
        </p:nvSpPr>
        <p:spPr>
          <a:xfrm>
            <a:off x="900000" y="5661000"/>
            <a:ext cx="172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айдёш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16"/>
          <p:cNvSpPr/>
          <p:nvPr/>
        </p:nvSpPr>
        <p:spPr>
          <a:xfrm>
            <a:off x="971640" y="6164280"/>
            <a:ext cx="1439640" cy="37296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8"/>
          <p:cNvSpPr/>
          <p:nvPr/>
        </p:nvSpPr>
        <p:spPr>
          <a:xfrm>
            <a:off x="2338560" y="5300640"/>
            <a:ext cx="217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9"/>
          <p:cNvSpPr/>
          <p:nvPr/>
        </p:nvSpPr>
        <p:spPr>
          <a:xfrm>
            <a:off x="2411280" y="6164280"/>
            <a:ext cx="217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0"/>
          <p:cNvSpPr/>
          <p:nvPr/>
        </p:nvSpPr>
        <p:spPr>
          <a:xfrm>
            <a:off x="3059280" y="5156280"/>
            <a:ext cx="266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удрый ничего не делае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1"/>
          <p:cNvSpPr/>
          <p:nvPr/>
        </p:nvSpPr>
        <p:spPr>
          <a:xfrm>
            <a:off x="3708360" y="6008760"/>
            <a:ext cx="144000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22"/>
          <p:cNvSpPr/>
          <p:nvPr/>
        </p:nvSpPr>
        <p:spPr>
          <a:xfrm>
            <a:off x="5292720" y="5950080"/>
            <a:ext cx="217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3"/>
          <p:cNvSpPr/>
          <p:nvPr/>
        </p:nvSpPr>
        <p:spPr>
          <a:xfrm>
            <a:off x="6227640" y="4941720"/>
            <a:ext cx="25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удрость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24"/>
          <p:cNvSpPr/>
          <p:nvPr/>
        </p:nvSpPr>
        <p:spPr>
          <a:xfrm>
            <a:off x="6229440" y="530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25"/>
          <p:cNvSpPr/>
          <p:nvPr/>
        </p:nvSpPr>
        <p:spPr>
          <a:xfrm>
            <a:off x="6659640" y="544500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26"/>
          <p:cNvSpPr/>
          <p:nvPr/>
        </p:nvSpPr>
        <p:spPr>
          <a:xfrm>
            <a:off x="6948360" y="544500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27"/>
          <p:cNvSpPr/>
          <p:nvPr/>
        </p:nvSpPr>
        <p:spPr>
          <a:xfrm>
            <a:off x="7236000" y="5445000"/>
            <a:ext cx="21564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28"/>
          <p:cNvSpPr/>
          <p:nvPr/>
        </p:nvSpPr>
        <p:spPr>
          <a:xfrm>
            <a:off x="7524720" y="544500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29"/>
          <p:cNvSpPr/>
          <p:nvPr/>
        </p:nvSpPr>
        <p:spPr>
          <a:xfrm>
            <a:off x="7812000" y="5446800"/>
            <a:ext cx="216000" cy="215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0"/>
          <p:cNvSpPr/>
          <p:nvPr/>
        </p:nvSpPr>
        <p:spPr>
          <a:xfrm>
            <a:off x="6227640" y="566100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31"/>
          <p:cNvSpPr/>
          <p:nvPr/>
        </p:nvSpPr>
        <p:spPr>
          <a:xfrm>
            <a:off x="6657840" y="580536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32"/>
          <p:cNvSpPr/>
          <p:nvPr/>
        </p:nvSpPr>
        <p:spPr>
          <a:xfrm>
            <a:off x="6946920" y="580536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33"/>
          <p:cNvSpPr/>
          <p:nvPr/>
        </p:nvSpPr>
        <p:spPr>
          <a:xfrm>
            <a:off x="7234200" y="580536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4"/>
          <p:cNvSpPr/>
          <p:nvPr/>
        </p:nvSpPr>
        <p:spPr>
          <a:xfrm>
            <a:off x="7740720" y="5661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5"/>
          <p:cNvSpPr/>
          <p:nvPr/>
        </p:nvSpPr>
        <p:spPr>
          <a:xfrm>
            <a:off x="6227640" y="602136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З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36"/>
          <p:cNvSpPr/>
          <p:nvPr/>
        </p:nvSpPr>
        <p:spPr>
          <a:xfrm>
            <a:off x="6657840" y="61657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37"/>
          <p:cNvSpPr/>
          <p:nvPr/>
        </p:nvSpPr>
        <p:spPr>
          <a:xfrm>
            <a:off x="6946920" y="61657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38"/>
          <p:cNvSpPr/>
          <p:nvPr/>
        </p:nvSpPr>
        <p:spPr>
          <a:xfrm>
            <a:off x="7234200" y="61657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39"/>
          <p:cNvSpPr/>
          <p:nvPr/>
        </p:nvSpPr>
        <p:spPr>
          <a:xfrm>
            <a:off x="7523280" y="6165720"/>
            <a:ext cx="21564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0"/>
          <p:cNvSpPr/>
          <p:nvPr/>
        </p:nvSpPr>
        <p:spPr>
          <a:xfrm>
            <a:off x="7740720" y="602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1"/>
          <p:cNvSpPr/>
          <p:nvPr/>
        </p:nvSpPr>
        <p:spPr>
          <a:xfrm>
            <a:off x="2916360" y="4581360"/>
            <a:ext cx="295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оны мудре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191"/>
          <p:cNvSpPr/>
          <p:nvPr/>
        </p:nvSpPr>
        <p:spPr>
          <a:xfrm>
            <a:off x="639720" y="3654360"/>
            <a:ext cx="7723080" cy="808200"/>
          </a:xfrm>
          <a:custGeom>
            <a:avLst/>
            <a:gdLst/>
            <a:ahLst/>
            <a:rect l="l" t="t" r="r" b="b"/>
            <a:pathLst>
              <a:path w="21455" h="2244">
                <a:moveTo>
                  <a:pt x="4057" y="6999"/>
                </a:moveTo>
                <a:cubicBezTo>
                  <a:pt x="4081" y="6982"/>
                  <a:pt x="4080" y="6962"/>
                  <a:pt x="4129" y="6949"/>
                </a:cubicBezTo>
                <a:cubicBezTo>
                  <a:pt x="4233" y="6921"/>
                  <a:pt x="4390" y="6983"/>
                  <a:pt x="4477" y="7038"/>
                </a:cubicBezTo>
                <a:cubicBezTo>
                  <a:pt x="4536" y="7076"/>
                  <a:pt x="4582" y="7120"/>
                  <a:pt x="4648" y="7147"/>
                </a:cubicBezTo>
                <a:cubicBezTo>
                  <a:pt x="4794" y="7208"/>
                  <a:pt x="4975" y="7200"/>
                  <a:pt x="5129" y="7217"/>
                </a:cubicBezTo>
                <a:cubicBezTo>
                  <a:pt x="5211" y="7226"/>
                  <a:pt x="5293" y="7236"/>
                  <a:pt x="5374" y="7245"/>
                </a:cubicBezTo>
                <a:cubicBezTo>
                  <a:pt x="5444" y="7253"/>
                  <a:pt x="5514" y="7258"/>
                  <a:pt x="5584" y="7258"/>
                </a:cubicBezTo>
                <a:cubicBezTo>
                  <a:pt x="5654" y="7258"/>
                  <a:pt x="5724" y="7253"/>
                  <a:pt x="5794" y="7252"/>
                </a:cubicBezTo>
                <a:cubicBezTo>
                  <a:pt x="5912" y="7251"/>
                  <a:pt x="6026" y="7245"/>
                  <a:pt x="6143" y="7239"/>
                </a:cubicBezTo>
                <a:cubicBezTo>
                  <a:pt x="6181" y="7237"/>
                  <a:pt x="6218" y="7240"/>
                  <a:pt x="6255" y="7239"/>
                </a:cubicBezTo>
                <a:cubicBezTo>
                  <a:pt x="6289" y="7238"/>
                  <a:pt x="6324" y="7236"/>
                  <a:pt x="6358" y="7234"/>
                </a:cubicBezTo>
                <a:cubicBezTo>
                  <a:pt x="6433" y="7229"/>
                  <a:pt x="6499" y="7206"/>
                  <a:pt x="6572" y="7191"/>
                </a:cubicBezTo>
                <a:cubicBezTo>
                  <a:pt x="6604" y="7184"/>
                  <a:pt x="6637" y="7178"/>
                  <a:pt x="6670" y="7173"/>
                </a:cubicBezTo>
                <a:cubicBezTo>
                  <a:pt x="6745" y="7161"/>
                  <a:pt x="6814" y="7147"/>
                  <a:pt x="6885" y="7119"/>
                </a:cubicBezTo>
                <a:cubicBezTo>
                  <a:pt x="6974" y="7084"/>
                  <a:pt x="7048" y="7028"/>
                  <a:pt x="7132" y="6984"/>
                </a:cubicBezTo>
                <a:cubicBezTo>
                  <a:pt x="7163" y="6968"/>
                  <a:pt x="7194" y="6955"/>
                  <a:pt x="7226" y="6942"/>
                </a:cubicBezTo>
                <a:cubicBezTo>
                  <a:pt x="7253" y="6931"/>
                  <a:pt x="7282" y="6922"/>
                  <a:pt x="7309" y="6909"/>
                </a:cubicBezTo>
                <a:cubicBezTo>
                  <a:pt x="7352" y="6888"/>
                  <a:pt x="7392" y="6861"/>
                  <a:pt x="7429" y="6833"/>
                </a:cubicBezTo>
                <a:cubicBezTo>
                  <a:pt x="7459" y="6810"/>
                  <a:pt x="7482" y="6791"/>
                  <a:pt x="7512" y="6763"/>
                </a:cubicBezTo>
              </a:path>
              <a:path w="21455" h="2244">
                <a:moveTo>
                  <a:pt x="7665" y="6805"/>
                </a:moveTo>
                <a:cubicBezTo>
                  <a:pt x="7749" y="6790"/>
                  <a:pt x="7826" y="6783"/>
                  <a:pt x="7910" y="6781"/>
                </a:cubicBezTo>
                <a:cubicBezTo>
                  <a:pt x="7988" y="6779"/>
                  <a:pt x="8064" y="6783"/>
                  <a:pt x="8142" y="6789"/>
                </a:cubicBezTo>
                <a:cubicBezTo>
                  <a:pt x="8179" y="6792"/>
                  <a:pt x="8214" y="6796"/>
                  <a:pt x="8251" y="6798"/>
                </a:cubicBezTo>
                <a:cubicBezTo>
                  <a:pt x="8511" y="6811"/>
                  <a:pt x="8771" y="6829"/>
                  <a:pt x="9030" y="6857"/>
                </a:cubicBezTo>
                <a:cubicBezTo>
                  <a:pt x="9202" y="6876"/>
                  <a:pt x="9370" y="6888"/>
                  <a:pt x="9539" y="6927"/>
                </a:cubicBezTo>
                <a:cubicBezTo>
                  <a:pt x="9708" y="6966"/>
                  <a:pt x="9871" y="7019"/>
                  <a:pt x="10038" y="7066"/>
                </a:cubicBezTo>
                <a:cubicBezTo>
                  <a:pt x="10139" y="7094"/>
                  <a:pt x="10238" y="7123"/>
                  <a:pt x="10337" y="7158"/>
                </a:cubicBezTo>
                <a:cubicBezTo>
                  <a:pt x="10463" y="7203"/>
                  <a:pt x="10594" y="7244"/>
                  <a:pt x="10725" y="7272"/>
                </a:cubicBezTo>
                <a:cubicBezTo>
                  <a:pt x="10792" y="7286"/>
                  <a:pt x="10862" y="7291"/>
                  <a:pt x="10928" y="7309"/>
                </a:cubicBezTo>
                <a:cubicBezTo>
                  <a:pt x="11011" y="7331"/>
                  <a:pt x="11082" y="7370"/>
                  <a:pt x="11158" y="7409"/>
                </a:cubicBezTo>
                <a:cubicBezTo>
                  <a:pt x="11207" y="7434"/>
                  <a:pt x="11260" y="7452"/>
                  <a:pt x="11308" y="7479"/>
                </a:cubicBezTo>
                <a:cubicBezTo>
                  <a:pt x="11380" y="7520"/>
                  <a:pt x="11477" y="7562"/>
                  <a:pt x="11538" y="7616"/>
                </a:cubicBezTo>
                <a:cubicBezTo>
                  <a:pt x="11599" y="7670"/>
                  <a:pt x="11612" y="7760"/>
                  <a:pt x="11669" y="7817"/>
                </a:cubicBezTo>
                <a:cubicBezTo>
                  <a:pt x="11679" y="7818"/>
                  <a:pt x="11688" y="7818"/>
                  <a:pt x="11698" y="7819"/>
                </a:cubicBezTo>
              </a:path>
              <a:path w="21455" h="2244">
                <a:moveTo>
                  <a:pt x="11927" y="7841"/>
                </a:moveTo>
                <a:cubicBezTo>
                  <a:pt x="12007" y="7873"/>
                  <a:pt x="12087" y="7908"/>
                  <a:pt x="12166" y="7946"/>
                </a:cubicBezTo>
                <a:cubicBezTo>
                  <a:pt x="12263" y="7993"/>
                  <a:pt x="12359" y="8043"/>
                  <a:pt x="12456" y="8090"/>
                </a:cubicBezTo>
                <a:cubicBezTo>
                  <a:pt x="12554" y="8138"/>
                  <a:pt x="12649" y="8180"/>
                  <a:pt x="12754" y="8212"/>
                </a:cubicBezTo>
                <a:cubicBezTo>
                  <a:pt x="12954" y="8272"/>
                  <a:pt x="13160" y="8296"/>
                  <a:pt x="13366" y="8321"/>
                </a:cubicBezTo>
                <a:cubicBezTo>
                  <a:pt x="13499" y="8337"/>
                  <a:pt x="13627" y="8379"/>
                  <a:pt x="13760" y="8388"/>
                </a:cubicBezTo>
                <a:cubicBezTo>
                  <a:pt x="13914" y="8399"/>
                  <a:pt x="14079" y="8378"/>
                  <a:pt x="14232" y="8356"/>
                </a:cubicBezTo>
                <a:cubicBezTo>
                  <a:pt x="14435" y="8326"/>
                  <a:pt x="14645" y="8281"/>
                  <a:pt x="14844" y="8229"/>
                </a:cubicBezTo>
                <a:cubicBezTo>
                  <a:pt x="14951" y="8201"/>
                  <a:pt x="15049" y="8157"/>
                  <a:pt x="15150" y="8111"/>
                </a:cubicBezTo>
                <a:cubicBezTo>
                  <a:pt x="15251" y="8065"/>
                  <a:pt x="15352" y="8018"/>
                  <a:pt x="15454" y="7974"/>
                </a:cubicBezTo>
                <a:cubicBezTo>
                  <a:pt x="15583" y="7919"/>
                  <a:pt x="15715" y="7880"/>
                  <a:pt x="15841" y="7819"/>
                </a:cubicBezTo>
                <a:cubicBezTo>
                  <a:pt x="15945" y="7769"/>
                  <a:pt x="16003" y="7710"/>
                  <a:pt x="16075" y="7625"/>
                </a:cubicBezTo>
                <a:cubicBezTo>
                  <a:pt x="16114" y="7579"/>
                  <a:pt x="16142" y="7525"/>
                  <a:pt x="16180" y="7477"/>
                </a:cubicBezTo>
                <a:cubicBezTo>
                  <a:pt x="16223" y="7443"/>
                  <a:pt x="16238" y="7430"/>
                  <a:pt x="16253" y="7394"/>
                </a:cubicBezTo>
              </a:path>
              <a:path w="21455" h="2244">
                <a:moveTo>
                  <a:pt x="15916" y="7887"/>
                </a:moveTo>
                <a:cubicBezTo>
                  <a:pt x="15993" y="7880"/>
                  <a:pt x="16074" y="7866"/>
                  <a:pt x="16158" y="7856"/>
                </a:cubicBezTo>
                <a:cubicBezTo>
                  <a:pt x="16362" y="7832"/>
                  <a:pt x="16570" y="7824"/>
                  <a:pt x="16775" y="7804"/>
                </a:cubicBezTo>
                <a:cubicBezTo>
                  <a:pt x="17094" y="7773"/>
                  <a:pt x="17395" y="7740"/>
                  <a:pt x="17711" y="7688"/>
                </a:cubicBezTo>
                <a:cubicBezTo>
                  <a:pt x="17841" y="7667"/>
                  <a:pt x="17974" y="7662"/>
                  <a:pt x="18105" y="7645"/>
                </a:cubicBezTo>
                <a:cubicBezTo>
                  <a:pt x="18329" y="7615"/>
                  <a:pt x="18547" y="7530"/>
                  <a:pt x="18774" y="7538"/>
                </a:cubicBezTo>
                <a:cubicBezTo>
                  <a:pt x="18991" y="7545"/>
                  <a:pt x="19220" y="7570"/>
                  <a:pt x="19436" y="7594"/>
                </a:cubicBezTo>
                <a:cubicBezTo>
                  <a:pt x="19634" y="7616"/>
                  <a:pt x="19866" y="7676"/>
                  <a:pt x="20051" y="7747"/>
                </a:cubicBezTo>
                <a:cubicBezTo>
                  <a:pt x="20230" y="7816"/>
                  <a:pt x="20376" y="7913"/>
                  <a:pt x="20484" y="8070"/>
                </a:cubicBezTo>
                <a:cubicBezTo>
                  <a:pt x="20597" y="8233"/>
                  <a:pt x="20696" y="8351"/>
                  <a:pt x="20853" y="8478"/>
                </a:cubicBezTo>
                <a:cubicBezTo>
                  <a:pt x="21185" y="8747"/>
                  <a:pt x="21645" y="9068"/>
                  <a:pt x="22095" y="8999"/>
                </a:cubicBezTo>
                <a:cubicBezTo>
                  <a:pt x="22141" y="8985"/>
                  <a:pt x="22187" y="8972"/>
                  <a:pt x="22233" y="8958"/>
                </a:cubicBezTo>
              </a:path>
              <a:path w="21455" h="2244">
                <a:moveTo>
                  <a:pt x="3970" y="8284"/>
                </a:moveTo>
                <a:cubicBezTo>
                  <a:pt x="3977" y="8282"/>
                  <a:pt x="3983" y="8279"/>
                  <a:pt x="3990" y="8277"/>
                </a:cubicBezTo>
                <a:cubicBezTo>
                  <a:pt x="3921" y="8286"/>
                  <a:pt x="3856" y="8298"/>
                  <a:pt x="3786" y="8295"/>
                </a:cubicBezTo>
                <a:cubicBezTo>
                  <a:pt x="3623" y="8289"/>
                  <a:pt x="3457" y="8232"/>
                  <a:pt x="3301" y="8188"/>
                </a:cubicBezTo>
                <a:cubicBezTo>
                  <a:pt x="3024" y="8111"/>
                  <a:pt x="2757" y="8023"/>
                  <a:pt x="2492" y="7911"/>
                </a:cubicBezTo>
                <a:cubicBezTo>
                  <a:pt x="2257" y="7812"/>
                  <a:pt x="2045" y="7689"/>
                  <a:pt x="1827" y="7559"/>
                </a:cubicBezTo>
                <a:cubicBezTo>
                  <a:pt x="1695" y="7480"/>
                  <a:pt x="1565" y="7403"/>
                  <a:pt x="1425" y="7339"/>
                </a:cubicBezTo>
                <a:cubicBezTo>
                  <a:pt x="1274" y="7270"/>
                  <a:pt x="1144" y="7258"/>
                  <a:pt x="981" y="7252"/>
                </a:cubicBezTo>
                <a:cubicBezTo>
                  <a:pt x="911" y="7249"/>
                  <a:pt x="849" y="7261"/>
                  <a:pt x="779" y="726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212"/>
          <p:cNvSpPr/>
          <p:nvPr/>
        </p:nvSpPr>
        <p:spPr>
          <a:xfrm>
            <a:off x="7529400" y="2421000"/>
            <a:ext cx="981360" cy="1517760"/>
          </a:xfrm>
          <a:custGeom>
            <a:avLst/>
            <a:gdLst/>
            <a:ahLst/>
            <a:rect l="l" t="t" r="r" b="b"/>
            <a:pathLst>
              <a:path w="2721" h="4213">
                <a:moveTo>
                  <a:pt x="23258" y="12592"/>
                </a:moveTo>
                <a:cubicBezTo>
                  <a:pt x="23262" y="12585"/>
                  <a:pt x="23265" y="12579"/>
                  <a:pt x="23269" y="12572"/>
                </a:cubicBezTo>
                <a:cubicBezTo>
                  <a:pt x="23227" y="12560"/>
                  <a:pt x="23184" y="12548"/>
                  <a:pt x="23142" y="12535"/>
                </a:cubicBezTo>
                <a:cubicBezTo>
                  <a:pt x="23094" y="12520"/>
                  <a:pt x="23041" y="12510"/>
                  <a:pt x="22995" y="12490"/>
                </a:cubicBezTo>
                <a:cubicBezTo>
                  <a:pt x="22961" y="12475"/>
                  <a:pt x="22932" y="12454"/>
                  <a:pt x="22899" y="12437"/>
                </a:cubicBezTo>
                <a:cubicBezTo>
                  <a:pt x="22741" y="12356"/>
                  <a:pt x="22610" y="12282"/>
                  <a:pt x="22475" y="12167"/>
                </a:cubicBezTo>
                <a:cubicBezTo>
                  <a:pt x="22440" y="12137"/>
                  <a:pt x="22402" y="12109"/>
                  <a:pt x="22363" y="12084"/>
                </a:cubicBezTo>
                <a:cubicBezTo>
                  <a:pt x="22278" y="12031"/>
                  <a:pt x="22202" y="11984"/>
                  <a:pt x="22129" y="11914"/>
                </a:cubicBezTo>
                <a:cubicBezTo>
                  <a:pt x="22097" y="11883"/>
                  <a:pt x="22063" y="11855"/>
                  <a:pt x="22031" y="11824"/>
                </a:cubicBezTo>
                <a:cubicBezTo>
                  <a:pt x="22002" y="11796"/>
                  <a:pt x="21975" y="11766"/>
                  <a:pt x="21946" y="11739"/>
                </a:cubicBezTo>
                <a:cubicBezTo>
                  <a:pt x="21907" y="11703"/>
                  <a:pt x="21864" y="11673"/>
                  <a:pt x="21825" y="11637"/>
                </a:cubicBezTo>
                <a:cubicBezTo>
                  <a:pt x="21768" y="11586"/>
                  <a:pt x="21712" y="11531"/>
                  <a:pt x="21657" y="11480"/>
                </a:cubicBezTo>
                <a:cubicBezTo>
                  <a:pt x="21605" y="11432"/>
                  <a:pt x="21563" y="11379"/>
                  <a:pt x="21515" y="11327"/>
                </a:cubicBezTo>
                <a:cubicBezTo>
                  <a:pt x="21465" y="11272"/>
                  <a:pt x="21408" y="11213"/>
                  <a:pt x="21342" y="11176"/>
                </a:cubicBezTo>
                <a:cubicBezTo>
                  <a:pt x="21308" y="11157"/>
                  <a:pt x="21262" y="11152"/>
                  <a:pt x="21226" y="11135"/>
                </a:cubicBezTo>
                <a:cubicBezTo>
                  <a:pt x="21182" y="11114"/>
                  <a:pt x="21150" y="11086"/>
                  <a:pt x="21110" y="11061"/>
                </a:cubicBezTo>
                <a:cubicBezTo>
                  <a:pt x="20984" y="10983"/>
                  <a:pt x="20856" y="10919"/>
                  <a:pt x="20719" y="10867"/>
                </a:cubicBezTo>
              </a:path>
              <a:path w="2721" h="4213">
                <a:moveTo>
                  <a:pt x="21268" y="9405"/>
                </a:moveTo>
                <a:cubicBezTo>
                  <a:pt x="21300" y="9403"/>
                  <a:pt x="21332" y="9399"/>
                  <a:pt x="21364" y="9396"/>
                </a:cubicBezTo>
                <a:cubicBezTo>
                  <a:pt x="21564" y="9375"/>
                  <a:pt x="21752" y="9396"/>
                  <a:pt x="21952" y="9359"/>
                </a:cubicBezTo>
                <a:cubicBezTo>
                  <a:pt x="22015" y="9347"/>
                  <a:pt x="22076" y="9330"/>
                  <a:pt x="22140" y="9320"/>
                </a:cubicBezTo>
                <a:cubicBezTo>
                  <a:pt x="22264" y="9301"/>
                  <a:pt x="22390" y="9282"/>
                  <a:pt x="22510" y="9244"/>
                </a:cubicBezTo>
                <a:cubicBezTo>
                  <a:pt x="22611" y="9211"/>
                  <a:pt x="22714" y="9164"/>
                  <a:pt x="22801" y="9102"/>
                </a:cubicBezTo>
                <a:cubicBezTo>
                  <a:pt x="23010" y="8952"/>
                  <a:pt x="23097" y="8690"/>
                  <a:pt x="23262" y="8502"/>
                </a:cubicBezTo>
                <a:cubicBezTo>
                  <a:pt x="23315" y="8441"/>
                  <a:pt x="23370" y="8415"/>
                  <a:pt x="23439" y="8380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31B4-753F-4F03-8424-50477E417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6360" y="44280"/>
            <a:ext cx="1295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  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36360" y="4428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612720" y="62064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36360" y="44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612720" y="620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332000" y="4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4932360" y="3429000"/>
            <a:ext cx="201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36360" y="3500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sokrat_1"/>
          <p:cNvPicPr/>
          <p:nvPr/>
        </p:nvPicPr>
        <p:blipFill>
          <a:blip r:embed="rId1"/>
          <a:stretch/>
        </p:blipFill>
        <p:spPr>
          <a:xfrm>
            <a:off x="642960" y="642960"/>
            <a:ext cx="2052720" cy="2798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3"/>
          <p:cNvSpPr/>
          <p:nvPr/>
        </p:nvSpPr>
        <p:spPr>
          <a:xfrm>
            <a:off x="828720" y="3430440"/>
            <a:ext cx="1366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к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platon_2"/>
          <p:cNvPicPr/>
          <p:nvPr/>
        </p:nvPicPr>
        <p:blipFill>
          <a:blip r:embed="rId2"/>
          <a:stretch/>
        </p:blipFill>
        <p:spPr>
          <a:xfrm>
            <a:off x="2808360" y="692280"/>
            <a:ext cx="2017800" cy="2809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5"/>
          <p:cNvSpPr/>
          <p:nvPr/>
        </p:nvSpPr>
        <p:spPr>
          <a:xfrm>
            <a:off x="3132000" y="3429000"/>
            <a:ext cx="13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8" descr="aristotel_2"/>
          <p:cNvPicPr/>
          <p:nvPr/>
        </p:nvPicPr>
        <p:blipFill>
          <a:blip r:embed="rId3"/>
          <a:stretch/>
        </p:blipFill>
        <p:spPr>
          <a:xfrm>
            <a:off x="4896000" y="692280"/>
            <a:ext cx="2004840" cy="2809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konfucii_3"/>
          <p:cNvPicPr/>
          <p:nvPr/>
        </p:nvPicPr>
        <p:blipFill>
          <a:blip r:embed="rId4"/>
          <a:stretch/>
        </p:blipFill>
        <p:spPr>
          <a:xfrm>
            <a:off x="6948360" y="692280"/>
            <a:ext cx="2109960" cy="2809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0"/>
          <p:cNvSpPr/>
          <p:nvPr/>
        </p:nvSpPr>
        <p:spPr>
          <a:xfrm>
            <a:off x="7164360" y="3429000"/>
            <a:ext cx="180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фу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esop_1"/>
          <p:cNvPicPr/>
          <p:nvPr/>
        </p:nvPicPr>
        <p:blipFill>
          <a:blip r:embed="rId5"/>
          <a:stretch/>
        </p:blipFill>
        <p:spPr>
          <a:xfrm>
            <a:off x="671400" y="3860640"/>
            <a:ext cx="1992600" cy="2664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2"/>
          <p:cNvSpPr/>
          <p:nvPr/>
        </p:nvSpPr>
        <p:spPr>
          <a:xfrm>
            <a:off x="971640" y="64533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з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3" descr="pifagor_1"/>
          <p:cNvPicPr/>
          <p:nvPr/>
        </p:nvPicPr>
        <p:blipFill>
          <a:blip r:embed="rId6"/>
          <a:stretch/>
        </p:blipFill>
        <p:spPr>
          <a:xfrm>
            <a:off x="2933640" y="3860640"/>
            <a:ext cx="1998720" cy="2664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4"/>
          <p:cNvSpPr/>
          <p:nvPr/>
        </p:nvSpPr>
        <p:spPr>
          <a:xfrm>
            <a:off x="3059280" y="6453360"/>
            <a:ext cx="165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6" descr="diogen_1"/>
          <p:cNvPicPr/>
          <p:nvPr/>
        </p:nvPicPr>
        <p:blipFill>
          <a:blip r:embed="rId7"/>
          <a:stretch/>
        </p:blipFill>
        <p:spPr>
          <a:xfrm>
            <a:off x="5219640" y="3916440"/>
            <a:ext cx="3673440" cy="2608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7"/>
          <p:cNvSpPr/>
          <p:nvPr/>
        </p:nvSpPr>
        <p:spPr>
          <a:xfrm>
            <a:off x="6081840" y="6453360"/>
            <a:ext cx="1298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BB11-E43B-4967-9755-8968D0DD7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95280" y="907920"/>
            <a:ext cx="1727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Ищ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763640" y="1052640"/>
            <a:ext cx="2374920" cy="5032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24000" y="1700280"/>
            <a:ext cx="2735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айдёш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698920" y="1774800"/>
            <a:ext cx="2232000" cy="5018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282920" y="112392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5003640" y="1773360"/>
            <a:ext cx="217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2627280" y="4867200"/>
            <a:ext cx="36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Мудрость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1687680" y="2852640"/>
            <a:ext cx="4825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удрый ничего не делает, 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425840" y="3571920"/>
            <a:ext cx="2448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7018200" y="3716280"/>
            <a:ext cx="217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627280" y="537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Ц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5"/>
          <p:cNvSpPr/>
          <p:nvPr/>
        </p:nvSpPr>
        <p:spPr>
          <a:xfrm>
            <a:off x="320364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6"/>
          <p:cNvSpPr/>
          <p:nvPr/>
        </p:nvSpPr>
        <p:spPr>
          <a:xfrm>
            <a:off x="349236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7"/>
          <p:cNvSpPr/>
          <p:nvPr/>
        </p:nvSpPr>
        <p:spPr>
          <a:xfrm>
            <a:off x="3780000" y="5587920"/>
            <a:ext cx="21564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8"/>
          <p:cNvSpPr/>
          <p:nvPr/>
        </p:nvSpPr>
        <p:spPr>
          <a:xfrm>
            <a:off x="406872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9"/>
          <p:cNvSpPr/>
          <p:nvPr/>
        </p:nvSpPr>
        <p:spPr>
          <a:xfrm>
            <a:off x="4356000" y="5589720"/>
            <a:ext cx="216000" cy="215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4861080" y="537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1"/>
          <p:cNvSpPr/>
          <p:nvPr/>
        </p:nvSpPr>
        <p:spPr>
          <a:xfrm>
            <a:off x="536400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2"/>
          <p:cNvSpPr/>
          <p:nvPr/>
        </p:nvSpPr>
        <p:spPr>
          <a:xfrm>
            <a:off x="565308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3"/>
          <p:cNvSpPr/>
          <p:nvPr/>
        </p:nvSpPr>
        <p:spPr>
          <a:xfrm>
            <a:off x="594036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4"/>
          <p:cNvSpPr/>
          <p:nvPr/>
        </p:nvSpPr>
        <p:spPr>
          <a:xfrm>
            <a:off x="6372360" y="537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6877080" y="537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З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6"/>
          <p:cNvSpPr/>
          <p:nvPr/>
        </p:nvSpPr>
        <p:spPr>
          <a:xfrm>
            <a:off x="7380360" y="558648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7"/>
          <p:cNvSpPr/>
          <p:nvPr/>
        </p:nvSpPr>
        <p:spPr>
          <a:xfrm>
            <a:off x="7669080" y="558648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8"/>
          <p:cNvSpPr/>
          <p:nvPr/>
        </p:nvSpPr>
        <p:spPr>
          <a:xfrm>
            <a:off x="7956720" y="5586480"/>
            <a:ext cx="21564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9"/>
          <p:cNvSpPr/>
          <p:nvPr/>
        </p:nvSpPr>
        <p:spPr>
          <a:xfrm>
            <a:off x="8245440" y="558648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0"/>
          <p:cNvSpPr/>
          <p:nvPr/>
        </p:nvSpPr>
        <p:spPr>
          <a:xfrm>
            <a:off x="8532720" y="52992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1"/>
          <p:cNvSpPr/>
          <p:nvPr/>
        </p:nvSpPr>
        <p:spPr>
          <a:xfrm>
            <a:off x="5435640" y="404640"/>
            <a:ext cx="295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оны мудре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C499-4900-4DD1-BE78-BF2DA79C1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"/>
          <p:cNvSpPr/>
          <p:nvPr/>
        </p:nvSpPr>
        <p:spPr>
          <a:xfrm>
            <a:off x="7451640" y="283356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1439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3560760" y="968400"/>
            <a:ext cx="2025720" cy="197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152960" y="8190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3560760" y="106668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3313080" y="160956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3411360" y="2252520"/>
            <a:ext cx="44640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3905280" y="26971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4548240" y="274644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5140440" y="25002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5338800" y="185724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5241960" y="131436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4795920" y="8701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5291280" y="1270080"/>
            <a:ext cx="395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4824360" y="838080"/>
            <a:ext cx="3970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4176720" y="765000"/>
            <a:ext cx="395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600360" y="1054080"/>
            <a:ext cx="3952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3313080" y="162576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3462480" y="220680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5400720" y="184644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5184720" y="249408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4573440" y="277812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Ч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3956040" y="2709720"/>
            <a:ext cx="395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5"/>
          <p:cNvSpPr/>
          <p:nvPr/>
        </p:nvSpPr>
        <p:spPr>
          <a:xfrm>
            <a:off x="3906720" y="1362240"/>
            <a:ext cx="1335240" cy="1236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395280" y="189000"/>
            <a:ext cx="1295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  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>
            <a:off x="395280" y="18900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8"/>
          <p:cNvSpPr/>
          <p:nvPr/>
        </p:nvSpPr>
        <p:spPr>
          <a:xfrm>
            <a:off x="971640" y="765000"/>
            <a:ext cx="0" cy="288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395280" y="189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0"/>
          <p:cNvSpPr/>
          <p:nvPr/>
        </p:nvSpPr>
        <p:spPr>
          <a:xfrm>
            <a:off x="971640" y="76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1690560" y="1890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2"/>
          <p:cNvSpPr/>
          <p:nvPr/>
        </p:nvSpPr>
        <p:spPr>
          <a:xfrm>
            <a:off x="971640" y="907920"/>
            <a:ext cx="2017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кра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тон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фуц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зоп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фаг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3"/>
          <p:cNvSpPr/>
          <p:nvPr/>
        </p:nvSpPr>
        <p:spPr>
          <a:xfrm>
            <a:off x="5938920" y="189000"/>
            <a:ext cx="29541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Блажен человек,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торый сниска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УДРОСТЬ»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МУДРОСТЬ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учше жемчуга».</a:t>
            </a:r>
            <a:br>
              <a:rPr sz="2400"/>
            </a:b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Библия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395280" y="36450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1546200" y="36972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2914560" y="32083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38560" y="3927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5722920" y="3495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7091280" y="3927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1"/>
          <p:cNvSpPr/>
          <p:nvPr/>
        </p:nvSpPr>
        <p:spPr>
          <a:xfrm>
            <a:off x="1617840" y="376884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2"/>
          <p:cNvSpPr/>
          <p:nvPr/>
        </p:nvSpPr>
        <p:spPr>
          <a:xfrm>
            <a:off x="2986200" y="327960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3"/>
          <p:cNvSpPr/>
          <p:nvPr/>
        </p:nvSpPr>
        <p:spPr>
          <a:xfrm>
            <a:off x="4210200" y="400068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4"/>
          <p:cNvSpPr/>
          <p:nvPr/>
        </p:nvSpPr>
        <p:spPr>
          <a:xfrm>
            <a:off x="5796000" y="356868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5"/>
          <p:cNvSpPr/>
          <p:nvPr/>
        </p:nvSpPr>
        <p:spPr>
          <a:xfrm>
            <a:off x="7162920" y="400068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6"/>
          <p:cNvSpPr/>
          <p:nvPr/>
        </p:nvSpPr>
        <p:spPr>
          <a:xfrm>
            <a:off x="8028000" y="39337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7"/>
          <p:cNvSpPr/>
          <p:nvPr/>
        </p:nvSpPr>
        <p:spPr>
          <a:xfrm>
            <a:off x="7597800" y="290664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8"/>
          <p:cNvSpPr/>
          <p:nvPr/>
        </p:nvSpPr>
        <p:spPr>
          <a:xfrm>
            <a:off x="8099280" y="4005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0"/>
          <p:cNvSpPr/>
          <p:nvPr/>
        </p:nvSpPr>
        <p:spPr>
          <a:xfrm>
            <a:off x="682560" y="4797360"/>
            <a:ext cx="216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щи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трудность,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айдёшь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мудрос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6"/>
          <p:cNvSpPr/>
          <p:nvPr/>
        </p:nvSpPr>
        <p:spPr>
          <a:xfrm>
            <a:off x="3059280" y="5156280"/>
            <a:ext cx="266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удрый ничего не делае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подум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9"/>
          <p:cNvSpPr/>
          <p:nvPr/>
        </p:nvSpPr>
        <p:spPr>
          <a:xfrm>
            <a:off x="6227640" y="5086440"/>
            <a:ext cx="252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удрость есть</a:t>
            </a:r>
            <a:br>
              <a:rPr sz="2400"/>
            </a:b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арица Неба и</a:t>
            </a:r>
            <a:br>
              <a:rPr sz="2400"/>
            </a:b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7"/>
          <p:cNvSpPr/>
          <p:nvPr/>
        </p:nvSpPr>
        <p:spPr>
          <a:xfrm>
            <a:off x="2916360" y="4581360"/>
            <a:ext cx="295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оны мудре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Ink 40"/>
          <p:cNvSpPr/>
          <p:nvPr/>
        </p:nvSpPr>
        <p:spPr>
          <a:xfrm>
            <a:off x="639720" y="3654360"/>
            <a:ext cx="7723080" cy="808200"/>
          </a:xfrm>
          <a:custGeom>
            <a:avLst/>
            <a:gdLst/>
            <a:ahLst/>
            <a:rect l="l" t="t" r="r" b="b"/>
            <a:pathLst>
              <a:path w="21455" h="2244">
                <a:moveTo>
                  <a:pt x="4057" y="6999"/>
                </a:moveTo>
                <a:cubicBezTo>
                  <a:pt x="4081" y="6982"/>
                  <a:pt x="4080" y="6962"/>
                  <a:pt x="4129" y="6949"/>
                </a:cubicBezTo>
                <a:cubicBezTo>
                  <a:pt x="4233" y="6921"/>
                  <a:pt x="4390" y="6983"/>
                  <a:pt x="4477" y="7038"/>
                </a:cubicBezTo>
                <a:cubicBezTo>
                  <a:pt x="4536" y="7076"/>
                  <a:pt x="4582" y="7120"/>
                  <a:pt x="4648" y="7147"/>
                </a:cubicBezTo>
                <a:cubicBezTo>
                  <a:pt x="4794" y="7208"/>
                  <a:pt x="4975" y="7200"/>
                  <a:pt x="5129" y="7217"/>
                </a:cubicBezTo>
                <a:cubicBezTo>
                  <a:pt x="5211" y="7226"/>
                  <a:pt x="5293" y="7236"/>
                  <a:pt x="5374" y="7245"/>
                </a:cubicBezTo>
                <a:cubicBezTo>
                  <a:pt x="5444" y="7253"/>
                  <a:pt x="5514" y="7258"/>
                  <a:pt x="5584" y="7258"/>
                </a:cubicBezTo>
                <a:cubicBezTo>
                  <a:pt x="5654" y="7258"/>
                  <a:pt x="5724" y="7253"/>
                  <a:pt x="5794" y="7252"/>
                </a:cubicBezTo>
                <a:cubicBezTo>
                  <a:pt x="5912" y="7251"/>
                  <a:pt x="6026" y="7245"/>
                  <a:pt x="6143" y="7239"/>
                </a:cubicBezTo>
                <a:cubicBezTo>
                  <a:pt x="6181" y="7237"/>
                  <a:pt x="6218" y="7240"/>
                  <a:pt x="6255" y="7239"/>
                </a:cubicBezTo>
                <a:cubicBezTo>
                  <a:pt x="6289" y="7238"/>
                  <a:pt x="6324" y="7236"/>
                  <a:pt x="6358" y="7234"/>
                </a:cubicBezTo>
                <a:cubicBezTo>
                  <a:pt x="6433" y="7229"/>
                  <a:pt x="6499" y="7206"/>
                  <a:pt x="6572" y="7191"/>
                </a:cubicBezTo>
                <a:cubicBezTo>
                  <a:pt x="6604" y="7184"/>
                  <a:pt x="6637" y="7178"/>
                  <a:pt x="6670" y="7173"/>
                </a:cubicBezTo>
                <a:cubicBezTo>
                  <a:pt x="6745" y="7161"/>
                  <a:pt x="6814" y="7147"/>
                  <a:pt x="6885" y="7119"/>
                </a:cubicBezTo>
                <a:cubicBezTo>
                  <a:pt x="6974" y="7084"/>
                  <a:pt x="7048" y="7028"/>
                  <a:pt x="7132" y="6984"/>
                </a:cubicBezTo>
                <a:cubicBezTo>
                  <a:pt x="7163" y="6968"/>
                  <a:pt x="7194" y="6955"/>
                  <a:pt x="7226" y="6942"/>
                </a:cubicBezTo>
                <a:cubicBezTo>
                  <a:pt x="7253" y="6931"/>
                  <a:pt x="7282" y="6922"/>
                  <a:pt x="7309" y="6909"/>
                </a:cubicBezTo>
                <a:cubicBezTo>
                  <a:pt x="7352" y="6888"/>
                  <a:pt x="7392" y="6861"/>
                  <a:pt x="7429" y="6833"/>
                </a:cubicBezTo>
                <a:cubicBezTo>
                  <a:pt x="7459" y="6810"/>
                  <a:pt x="7482" y="6791"/>
                  <a:pt x="7512" y="6763"/>
                </a:cubicBezTo>
              </a:path>
              <a:path w="21455" h="2244">
                <a:moveTo>
                  <a:pt x="7665" y="6805"/>
                </a:moveTo>
                <a:cubicBezTo>
                  <a:pt x="7749" y="6790"/>
                  <a:pt x="7826" y="6783"/>
                  <a:pt x="7910" y="6781"/>
                </a:cubicBezTo>
                <a:cubicBezTo>
                  <a:pt x="7988" y="6779"/>
                  <a:pt x="8064" y="6783"/>
                  <a:pt x="8142" y="6789"/>
                </a:cubicBezTo>
                <a:cubicBezTo>
                  <a:pt x="8179" y="6792"/>
                  <a:pt x="8214" y="6796"/>
                  <a:pt x="8251" y="6798"/>
                </a:cubicBezTo>
                <a:cubicBezTo>
                  <a:pt x="8511" y="6811"/>
                  <a:pt x="8771" y="6829"/>
                  <a:pt x="9030" y="6857"/>
                </a:cubicBezTo>
                <a:cubicBezTo>
                  <a:pt x="9202" y="6876"/>
                  <a:pt x="9370" y="6888"/>
                  <a:pt x="9539" y="6927"/>
                </a:cubicBezTo>
                <a:cubicBezTo>
                  <a:pt x="9708" y="6966"/>
                  <a:pt x="9871" y="7019"/>
                  <a:pt x="10038" y="7066"/>
                </a:cubicBezTo>
                <a:cubicBezTo>
                  <a:pt x="10139" y="7094"/>
                  <a:pt x="10238" y="7123"/>
                  <a:pt x="10337" y="7158"/>
                </a:cubicBezTo>
                <a:cubicBezTo>
                  <a:pt x="10463" y="7203"/>
                  <a:pt x="10594" y="7244"/>
                  <a:pt x="10725" y="7272"/>
                </a:cubicBezTo>
                <a:cubicBezTo>
                  <a:pt x="10792" y="7286"/>
                  <a:pt x="10862" y="7291"/>
                  <a:pt x="10928" y="7309"/>
                </a:cubicBezTo>
                <a:cubicBezTo>
                  <a:pt x="11011" y="7331"/>
                  <a:pt x="11082" y="7370"/>
                  <a:pt x="11158" y="7409"/>
                </a:cubicBezTo>
                <a:cubicBezTo>
                  <a:pt x="11207" y="7434"/>
                  <a:pt x="11260" y="7452"/>
                  <a:pt x="11308" y="7479"/>
                </a:cubicBezTo>
                <a:cubicBezTo>
                  <a:pt x="11380" y="7520"/>
                  <a:pt x="11477" y="7562"/>
                  <a:pt x="11538" y="7616"/>
                </a:cubicBezTo>
                <a:cubicBezTo>
                  <a:pt x="11599" y="7670"/>
                  <a:pt x="11612" y="7760"/>
                  <a:pt x="11669" y="7817"/>
                </a:cubicBezTo>
                <a:cubicBezTo>
                  <a:pt x="11679" y="7818"/>
                  <a:pt x="11688" y="7818"/>
                  <a:pt x="11698" y="7819"/>
                </a:cubicBezTo>
              </a:path>
              <a:path w="21455" h="2244">
                <a:moveTo>
                  <a:pt x="11927" y="7841"/>
                </a:moveTo>
                <a:cubicBezTo>
                  <a:pt x="12007" y="7873"/>
                  <a:pt x="12087" y="7908"/>
                  <a:pt x="12166" y="7946"/>
                </a:cubicBezTo>
                <a:cubicBezTo>
                  <a:pt x="12263" y="7993"/>
                  <a:pt x="12359" y="8043"/>
                  <a:pt x="12456" y="8090"/>
                </a:cubicBezTo>
                <a:cubicBezTo>
                  <a:pt x="12554" y="8138"/>
                  <a:pt x="12649" y="8180"/>
                  <a:pt x="12754" y="8212"/>
                </a:cubicBezTo>
                <a:cubicBezTo>
                  <a:pt x="12954" y="8272"/>
                  <a:pt x="13160" y="8296"/>
                  <a:pt x="13366" y="8321"/>
                </a:cubicBezTo>
                <a:cubicBezTo>
                  <a:pt x="13499" y="8337"/>
                  <a:pt x="13627" y="8379"/>
                  <a:pt x="13760" y="8388"/>
                </a:cubicBezTo>
                <a:cubicBezTo>
                  <a:pt x="13914" y="8399"/>
                  <a:pt x="14079" y="8378"/>
                  <a:pt x="14232" y="8356"/>
                </a:cubicBezTo>
                <a:cubicBezTo>
                  <a:pt x="14435" y="8326"/>
                  <a:pt x="14645" y="8281"/>
                  <a:pt x="14844" y="8229"/>
                </a:cubicBezTo>
                <a:cubicBezTo>
                  <a:pt x="14951" y="8201"/>
                  <a:pt x="15049" y="8157"/>
                  <a:pt x="15150" y="8111"/>
                </a:cubicBezTo>
                <a:cubicBezTo>
                  <a:pt x="15251" y="8065"/>
                  <a:pt x="15352" y="8018"/>
                  <a:pt x="15454" y="7974"/>
                </a:cubicBezTo>
                <a:cubicBezTo>
                  <a:pt x="15583" y="7919"/>
                  <a:pt x="15715" y="7880"/>
                  <a:pt x="15841" y="7819"/>
                </a:cubicBezTo>
                <a:cubicBezTo>
                  <a:pt x="15945" y="7769"/>
                  <a:pt x="16003" y="7710"/>
                  <a:pt x="16075" y="7625"/>
                </a:cubicBezTo>
                <a:cubicBezTo>
                  <a:pt x="16114" y="7579"/>
                  <a:pt x="16142" y="7525"/>
                  <a:pt x="16180" y="7477"/>
                </a:cubicBezTo>
                <a:cubicBezTo>
                  <a:pt x="16223" y="7443"/>
                  <a:pt x="16238" y="7430"/>
                  <a:pt x="16253" y="7394"/>
                </a:cubicBezTo>
              </a:path>
              <a:path w="21455" h="2244">
                <a:moveTo>
                  <a:pt x="15916" y="7887"/>
                </a:moveTo>
                <a:cubicBezTo>
                  <a:pt x="15993" y="7880"/>
                  <a:pt x="16074" y="7866"/>
                  <a:pt x="16158" y="7856"/>
                </a:cubicBezTo>
                <a:cubicBezTo>
                  <a:pt x="16362" y="7832"/>
                  <a:pt x="16570" y="7824"/>
                  <a:pt x="16775" y="7804"/>
                </a:cubicBezTo>
                <a:cubicBezTo>
                  <a:pt x="17094" y="7773"/>
                  <a:pt x="17395" y="7740"/>
                  <a:pt x="17711" y="7688"/>
                </a:cubicBezTo>
                <a:cubicBezTo>
                  <a:pt x="17841" y="7667"/>
                  <a:pt x="17974" y="7662"/>
                  <a:pt x="18105" y="7645"/>
                </a:cubicBezTo>
                <a:cubicBezTo>
                  <a:pt x="18329" y="7615"/>
                  <a:pt x="18547" y="7530"/>
                  <a:pt x="18774" y="7538"/>
                </a:cubicBezTo>
                <a:cubicBezTo>
                  <a:pt x="18991" y="7545"/>
                  <a:pt x="19220" y="7570"/>
                  <a:pt x="19436" y="7594"/>
                </a:cubicBezTo>
                <a:cubicBezTo>
                  <a:pt x="19634" y="7616"/>
                  <a:pt x="19866" y="7676"/>
                  <a:pt x="20051" y="7747"/>
                </a:cubicBezTo>
                <a:cubicBezTo>
                  <a:pt x="20230" y="7816"/>
                  <a:pt x="20376" y="7913"/>
                  <a:pt x="20484" y="8070"/>
                </a:cubicBezTo>
                <a:cubicBezTo>
                  <a:pt x="20597" y="8233"/>
                  <a:pt x="20696" y="8351"/>
                  <a:pt x="20853" y="8478"/>
                </a:cubicBezTo>
                <a:cubicBezTo>
                  <a:pt x="21185" y="8747"/>
                  <a:pt x="21645" y="9068"/>
                  <a:pt x="22095" y="8999"/>
                </a:cubicBezTo>
                <a:cubicBezTo>
                  <a:pt x="22141" y="8985"/>
                  <a:pt x="22187" y="8972"/>
                  <a:pt x="22233" y="8958"/>
                </a:cubicBezTo>
              </a:path>
              <a:path w="21455" h="2244">
                <a:moveTo>
                  <a:pt x="3970" y="8284"/>
                </a:moveTo>
                <a:cubicBezTo>
                  <a:pt x="3977" y="8282"/>
                  <a:pt x="3983" y="8279"/>
                  <a:pt x="3990" y="8277"/>
                </a:cubicBezTo>
                <a:cubicBezTo>
                  <a:pt x="3921" y="8286"/>
                  <a:pt x="3856" y="8298"/>
                  <a:pt x="3786" y="8295"/>
                </a:cubicBezTo>
                <a:cubicBezTo>
                  <a:pt x="3623" y="8289"/>
                  <a:pt x="3457" y="8232"/>
                  <a:pt x="3301" y="8188"/>
                </a:cubicBezTo>
                <a:cubicBezTo>
                  <a:pt x="3024" y="8111"/>
                  <a:pt x="2757" y="8023"/>
                  <a:pt x="2492" y="7911"/>
                </a:cubicBezTo>
                <a:cubicBezTo>
                  <a:pt x="2257" y="7812"/>
                  <a:pt x="2045" y="7689"/>
                  <a:pt x="1827" y="7559"/>
                </a:cubicBezTo>
                <a:cubicBezTo>
                  <a:pt x="1695" y="7480"/>
                  <a:pt x="1565" y="7403"/>
                  <a:pt x="1425" y="7339"/>
                </a:cubicBezTo>
                <a:cubicBezTo>
                  <a:pt x="1274" y="7270"/>
                  <a:pt x="1144" y="7258"/>
                  <a:pt x="981" y="7252"/>
                </a:cubicBezTo>
                <a:cubicBezTo>
                  <a:pt x="911" y="7249"/>
                  <a:pt x="849" y="7261"/>
                  <a:pt x="779" y="726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nk 49"/>
          <p:cNvSpPr/>
          <p:nvPr/>
        </p:nvSpPr>
        <p:spPr>
          <a:xfrm>
            <a:off x="7529400" y="2421000"/>
            <a:ext cx="981360" cy="1517760"/>
          </a:xfrm>
          <a:custGeom>
            <a:avLst/>
            <a:gdLst/>
            <a:ahLst/>
            <a:rect l="l" t="t" r="r" b="b"/>
            <a:pathLst>
              <a:path w="2721" h="4213">
                <a:moveTo>
                  <a:pt x="23258" y="12592"/>
                </a:moveTo>
                <a:cubicBezTo>
                  <a:pt x="23262" y="12585"/>
                  <a:pt x="23265" y="12579"/>
                  <a:pt x="23269" y="12572"/>
                </a:cubicBezTo>
                <a:cubicBezTo>
                  <a:pt x="23227" y="12560"/>
                  <a:pt x="23184" y="12548"/>
                  <a:pt x="23142" y="12535"/>
                </a:cubicBezTo>
                <a:cubicBezTo>
                  <a:pt x="23094" y="12520"/>
                  <a:pt x="23041" y="12510"/>
                  <a:pt x="22995" y="12490"/>
                </a:cubicBezTo>
                <a:cubicBezTo>
                  <a:pt x="22961" y="12475"/>
                  <a:pt x="22932" y="12454"/>
                  <a:pt x="22899" y="12437"/>
                </a:cubicBezTo>
                <a:cubicBezTo>
                  <a:pt x="22741" y="12356"/>
                  <a:pt x="22610" y="12282"/>
                  <a:pt x="22475" y="12167"/>
                </a:cubicBezTo>
                <a:cubicBezTo>
                  <a:pt x="22440" y="12137"/>
                  <a:pt x="22402" y="12109"/>
                  <a:pt x="22363" y="12084"/>
                </a:cubicBezTo>
                <a:cubicBezTo>
                  <a:pt x="22278" y="12031"/>
                  <a:pt x="22202" y="11984"/>
                  <a:pt x="22129" y="11914"/>
                </a:cubicBezTo>
                <a:cubicBezTo>
                  <a:pt x="22097" y="11883"/>
                  <a:pt x="22063" y="11855"/>
                  <a:pt x="22031" y="11824"/>
                </a:cubicBezTo>
                <a:cubicBezTo>
                  <a:pt x="22002" y="11796"/>
                  <a:pt x="21975" y="11766"/>
                  <a:pt x="21946" y="11739"/>
                </a:cubicBezTo>
                <a:cubicBezTo>
                  <a:pt x="21907" y="11703"/>
                  <a:pt x="21864" y="11673"/>
                  <a:pt x="21825" y="11637"/>
                </a:cubicBezTo>
                <a:cubicBezTo>
                  <a:pt x="21768" y="11586"/>
                  <a:pt x="21712" y="11531"/>
                  <a:pt x="21657" y="11480"/>
                </a:cubicBezTo>
                <a:cubicBezTo>
                  <a:pt x="21605" y="11432"/>
                  <a:pt x="21563" y="11379"/>
                  <a:pt x="21515" y="11327"/>
                </a:cubicBezTo>
                <a:cubicBezTo>
                  <a:pt x="21465" y="11272"/>
                  <a:pt x="21408" y="11213"/>
                  <a:pt x="21342" y="11176"/>
                </a:cubicBezTo>
                <a:cubicBezTo>
                  <a:pt x="21308" y="11157"/>
                  <a:pt x="21262" y="11152"/>
                  <a:pt x="21226" y="11135"/>
                </a:cubicBezTo>
                <a:cubicBezTo>
                  <a:pt x="21182" y="11114"/>
                  <a:pt x="21150" y="11086"/>
                  <a:pt x="21110" y="11061"/>
                </a:cubicBezTo>
                <a:cubicBezTo>
                  <a:pt x="20984" y="10983"/>
                  <a:pt x="20856" y="10919"/>
                  <a:pt x="20719" y="10867"/>
                </a:cubicBezTo>
              </a:path>
              <a:path w="2721" h="4213">
                <a:moveTo>
                  <a:pt x="21268" y="9405"/>
                </a:moveTo>
                <a:cubicBezTo>
                  <a:pt x="21300" y="9403"/>
                  <a:pt x="21332" y="9399"/>
                  <a:pt x="21364" y="9396"/>
                </a:cubicBezTo>
                <a:cubicBezTo>
                  <a:pt x="21564" y="9375"/>
                  <a:pt x="21752" y="9396"/>
                  <a:pt x="21952" y="9359"/>
                </a:cubicBezTo>
                <a:cubicBezTo>
                  <a:pt x="22015" y="9347"/>
                  <a:pt x="22076" y="9330"/>
                  <a:pt x="22140" y="9320"/>
                </a:cubicBezTo>
                <a:cubicBezTo>
                  <a:pt x="22264" y="9301"/>
                  <a:pt x="22390" y="9282"/>
                  <a:pt x="22510" y="9244"/>
                </a:cubicBezTo>
                <a:cubicBezTo>
                  <a:pt x="22611" y="9211"/>
                  <a:pt x="22714" y="9164"/>
                  <a:pt x="22801" y="9102"/>
                </a:cubicBezTo>
                <a:cubicBezTo>
                  <a:pt x="23010" y="8952"/>
                  <a:pt x="23097" y="8690"/>
                  <a:pt x="23262" y="8502"/>
                </a:cubicBezTo>
                <a:cubicBezTo>
                  <a:pt x="23315" y="8441"/>
                  <a:pt x="23370" y="8415"/>
                  <a:pt x="23439" y="8380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8DA9-9869-4619-B17D-16D7A0C4A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26028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cc"/>
                </a:solidFill>
                <a:uFillTx/>
                <a:latin typeface="Arial"/>
              </a:rPr>
              <a:t>Парк Академ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318960" y="1197000"/>
            <a:ext cx="4141800" cy="2541600"/>
          </a:xfrm>
          <a:custGeom>
            <a:avLst/>
            <a:gdLst>
              <a:gd name="textAreaLeft" fmla="*/ 0 w 4141800"/>
              <a:gd name="textAreaRight" fmla="*/ 4142160 w 414180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984240" y="1419120"/>
            <a:ext cx="30114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атство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как вод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1352520" y="2232000"/>
            <a:ext cx="1881360" cy="376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011320" y="3079800"/>
            <a:ext cx="1882800" cy="374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3"/>
          <p:cNvSpPr/>
          <p:nvPr/>
        </p:nvSpPr>
        <p:spPr>
          <a:xfrm>
            <a:off x="250920" y="1341360"/>
            <a:ext cx="1744560" cy="229068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2290680"/>
              <a:gd name="textAreaBottom" fmla="*/ 2291040 h 229068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4"/>
          <p:cNvSpPr/>
          <p:nvPr/>
        </p:nvSpPr>
        <p:spPr>
          <a:xfrm>
            <a:off x="4816440" y="333360"/>
            <a:ext cx="4003560" cy="245736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eafe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5089680" y="423720"/>
            <a:ext cx="290988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нига подоб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во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5815080" y="1335240"/>
            <a:ext cx="1819080" cy="361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6591240" y="2244600"/>
            <a:ext cx="1819440" cy="363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8"/>
          <p:cNvSpPr/>
          <p:nvPr/>
        </p:nvSpPr>
        <p:spPr>
          <a:xfrm>
            <a:off x="4756320" y="506520"/>
            <a:ext cx="1687320" cy="2214360"/>
          </a:xfrm>
          <a:custGeom>
            <a:avLst/>
            <a:gdLst>
              <a:gd name="textAreaLeft" fmla="*/ 0 w 1687320"/>
              <a:gd name="textAreaRight" fmla="*/ 1687680 w 16873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6227640" y="1790640"/>
            <a:ext cx="1819440" cy="36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2"/>
          <p:cNvSpPr/>
          <p:nvPr/>
        </p:nvSpPr>
        <p:spPr>
          <a:xfrm>
            <a:off x="890640" y="4149720"/>
            <a:ext cx="4003560" cy="245736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a0ee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3"/>
          <p:cNvSpPr/>
          <p:nvPr/>
        </p:nvSpPr>
        <p:spPr>
          <a:xfrm>
            <a:off x="1163520" y="4240080"/>
            <a:ext cx="290988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птица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а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4"/>
          <p:cNvSpPr/>
          <p:nvPr/>
        </p:nvSpPr>
        <p:spPr>
          <a:xfrm>
            <a:off x="1835280" y="5011560"/>
            <a:ext cx="1819080" cy="362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5"/>
          <p:cNvSpPr/>
          <p:nvPr/>
        </p:nvSpPr>
        <p:spPr>
          <a:xfrm>
            <a:off x="2665440" y="6060960"/>
            <a:ext cx="1819080" cy="363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6"/>
          <p:cNvSpPr/>
          <p:nvPr/>
        </p:nvSpPr>
        <p:spPr>
          <a:xfrm>
            <a:off x="797040" y="4322880"/>
            <a:ext cx="1687320" cy="2214360"/>
          </a:xfrm>
          <a:custGeom>
            <a:avLst/>
            <a:gdLst>
              <a:gd name="textAreaLeft" fmla="*/ 0 w 1687320"/>
              <a:gd name="textAreaRight" fmla="*/ 1687680 w 16873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8"/>
          <p:cNvSpPr/>
          <p:nvPr/>
        </p:nvSpPr>
        <p:spPr>
          <a:xfrm>
            <a:off x="4889520" y="3068640"/>
            <a:ext cx="4003560" cy="331308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fda1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40"/>
          <p:cNvSpPr/>
          <p:nvPr/>
        </p:nvSpPr>
        <p:spPr>
          <a:xfrm>
            <a:off x="4915080" y="3284640"/>
            <a:ext cx="1812600" cy="306072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1142" h="1928">
                <a:moveTo>
                  <a:pt x="0" y="37"/>
                </a:moveTo>
                <a:cubicBezTo>
                  <a:pt x="61" y="52"/>
                  <a:pt x="110" y="91"/>
                  <a:pt x="132" y="157"/>
                </a:cubicBezTo>
                <a:cubicBezTo>
                  <a:pt x="136" y="169"/>
                  <a:pt x="136" y="183"/>
                  <a:pt x="144" y="193"/>
                </a:cubicBezTo>
                <a:cubicBezTo>
                  <a:pt x="161" y="214"/>
                  <a:pt x="192" y="221"/>
                  <a:pt x="216" y="229"/>
                </a:cubicBezTo>
                <a:cubicBezTo>
                  <a:pt x="232" y="307"/>
                  <a:pt x="242" y="328"/>
                  <a:pt x="288" y="397"/>
                </a:cubicBezTo>
                <a:cubicBezTo>
                  <a:pt x="296" y="409"/>
                  <a:pt x="307" y="419"/>
                  <a:pt x="312" y="433"/>
                </a:cubicBezTo>
                <a:cubicBezTo>
                  <a:pt x="320" y="457"/>
                  <a:pt x="336" y="505"/>
                  <a:pt x="336" y="505"/>
                </a:cubicBezTo>
                <a:cubicBezTo>
                  <a:pt x="350" y="1008"/>
                  <a:pt x="295" y="796"/>
                  <a:pt x="384" y="997"/>
                </a:cubicBezTo>
                <a:cubicBezTo>
                  <a:pt x="414" y="1065"/>
                  <a:pt x="404" y="1087"/>
                  <a:pt x="468" y="1129"/>
                </a:cubicBezTo>
                <a:cubicBezTo>
                  <a:pt x="476" y="1141"/>
                  <a:pt x="482" y="1155"/>
                  <a:pt x="492" y="1165"/>
                </a:cubicBezTo>
                <a:cubicBezTo>
                  <a:pt x="502" y="1175"/>
                  <a:pt x="519" y="1178"/>
                  <a:pt x="528" y="1189"/>
                </a:cubicBezTo>
                <a:cubicBezTo>
                  <a:pt x="570" y="1237"/>
                  <a:pt x="591" y="1288"/>
                  <a:pt x="636" y="1333"/>
                </a:cubicBezTo>
                <a:cubicBezTo>
                  <a:pt x="648" y="1369"/>
                  <a:pt x="660" y="1405"/>
                  <a:pt x="672" y="1441"/>
                </a:cubicBezTo>
                <a:cubicBezTo>
                  <a:pt x="676" y="1453"/>
                  <a:pt x="673" y="1470"/>
                  <a:pt x="684" y="1477"/>
                </a:cubicBezTo>
                <a:cubicBezTo>
                  <a:pt x="708" y="1493"/>
                  <a:pt x="732" y="1509"/>
                  <a:pt x="756" y="1525"/>
                </a:cubicBezTo>
                <a:cubicBezTo>
                  <a:pt x="768" y="1533"/>
                  <a:pt x="792" y="1549"/>
                  <a:pt x="792" y="1549"/>
                </a:cubicBezTo>
                <a:cubicBezTo>
                  <a:pt x="800" y="1561"/>
                  <a:pt x="811" y="1571"/>
                  <a:pt x="816" y="1585"/>
                </a:cubicBezTo>
                <a:cubicBezTo>
                  <a:pt x="824" y="1609"/>
                  <a:pt x="818" y="1674"/>
                  <a:pt x="852" y="1693"/>
                </a:cubicBezTo>
                <a:cubicBezTo>
                  <a:pt x="870" y="1703"/>
                  <a:pt x="892" y="1701"/>
                  <a:pt x="912" y="1705"/>
                </a:cubicBezTo>
                <a:cubicBezTo>
                  <a:pt x="924" y="1740"/>
                  <a:pt x="922" y="1811"/>
                  <a:pt x="948" y="1837"/>
                </a:cubicBezTo>
                <a:cubicBezTo>
                  <a:pt x="957" y="1846"/>
                  <a:pt x="973" y="1843"/>
                  <a:pt x="984" y="1849"/>
                </a:cubicBezTo>
                <a:cubicBezTo>
                  <a:pt x="1142" y="1928"/>
                  <a:pt x="754" y="1862"/>
                  <a:pt x="732" y="1861"/>
                </a:cubicBezTo>
                <a:cubicBezTo>
                  <a:pt x="688" y="1832"/>
                  <a:pt x="651" y="1814"/>
                  <a:pt x="600" y="1801"/>
                </a:cubicBezTo>
                <a:cubicBezTo>
                  <a:pt x="483" y="1723"/>
                  <a:pt x="400" y="1760"/>
                  <a:pt x="228" y="1753"/>
                </a:cubicBezTo>
                <a:cubicBezTo>
                  <a:pt x="183" y="1708"/>
                  <a:pt x="161" y="1656"/>
                  <a:pt x="108" y="1621"/>
                </a:cubicBezTo>
                <a:cubicBezTo>
                  <a:pt x="12" y="1477"/>
                  <a:pt x="78" y="1365"/>
                  <a:pt x="84" y="1153"/>
                </a:cubicBezTo>
                <a:cubicBezTo>
                  <a:pt x="80" y="1017"/>
                  <a:pt x="78" y="881"/>
                  <a:pt x="72" y="745"/>
                </a:cubicBezTo>
                <a:cubicBezTo>
                  <a:pt x="69" y="681"/>
                  <a:pt x="54" y="625"/>
                  <a:pt x="36" y="565"/>
                </a:cubicBezTo>
                <a:cubicBezTo>
                  <a:pt x="29" y="541"/>
                  <a:pt x="12" y="493"/>
                  <a:pt x="12" y="493"/>
                </a:cubicBezTo>
                <a:cubicBezTo>
                  <a:pt x="8" y="369"/>
                  <a:pt x="0" y="245"/>
                  <a:pt x="0" y="121"/>
                </a:cubicBezTo>
                <a:cubicBezTo>
                  <a:pt x="0" y="0"/>
                  <a:pt x="38" y="187"/>
                  <a:pt x="0" y="37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1"/>
          <p:cNvSpPr/>
          <p:nvPr/>
        </p:nvSpPr>
        <p:spPr>
          <a:xfrm>
            <a:off x="5407200" y="3668760"/>
            <a:ext cx="290988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ше один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день быть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чем тысячу ле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2"/>
          <p:cNvSpPr/>
          <p:nvPr/>
        </p:nvSpPr>
        <p:spPr>
          <a:xfrm>
            <a:off x="5867280" y="4437000"/>
            <a:ext cx="1819440" cy="362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3"/>
          <p:cNvSpPr/>
          <p:nvPr/>
        </p:nvSpPr>
        <p:spPr>
          <a:xfrm>
            <a:off x="6640560" y="5659560"/>
            <a:ext cx="1819080" cy="361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4"/>
          <p:cNvSpPr/>
          <p:nvPr/>
        </p:nvSpPr>
        <p:spPr>
          <a:xfrm>
            <a:off x="7667640" y="443700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5"/>
          <p:cNvSpPr/>
          <p:nvPr/>
        </p:nvSpPr>
        <p:spPr>
          <a:xfrm>
            <a:off x="3635280" y="501336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3303-34A6-4E16-84BA-94B86A884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318960" y="1197000"/>
            <a:ext cx="4141800" cy="2541600"/>
          </a:xfrm>
          <a:custGeom>
            <a:avLst/>
            <a:gdLst>
              <a:gd name="textAreaLeft" fmla="*/ 0 w 4141800"/>
              <a:gd name="textAreaRight" fmla="*/ 4142160 w 414180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114560" y="1562040"/>
            <a:ext cx="352872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атство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как вода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итекает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тек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235080" y="1374840"/>
            <a:ext cx="1744560" cy="229068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2290680"/>
              <a:gd name="textAreaBottom" fmla="*/ 2291040 h 229068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8"/>
          <p:cNvSpPr/>
          <p:nvPr/>
        </p:nvSpPr>
        <p:spPr>
          <a:xfrm>
            <a:off x="4816440" y="333360"/>
            <a:ext cx="4003560" cy="245736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eafe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5089680" y="423720"/>
            <a:ext cx="308268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нига подоб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воде:</a:t>
            </a:r>
            <a:br>
              <a:rPr sz="20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дорогу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пробьёт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      вез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2"/>
          <p:cNvSpPr/>
          <p:nvPr/>
        </p:nvSpPr>
        <p:spPr>
          <a:xfrm>
            <a:off x="4756320" y="506520"/>
            <a:ext cx="1687320" cy="2214360"/>
          </a:xfrm>
          <a:custGeom>
            <a:avLst/>
            <a:gdLst>
              <a:gd name="textAreaLeft" fmla="*/ 0 w 1687320"/>
              <a:gd name="textAreaRight" fmla="*/ 1687680 w 16873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4"/>
          <p:cNvSpPr/>
          <p:nvPr/>
        </p:nvSpPr>
        <p:spPr>
          <a:xfrm>
            <a:off x="890640" y="4149720"/>
            <a:ext cx="4003560" cy="245736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a0ee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1446120" y="4389480"/>
            <a:ext cx="290988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птиц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ерьем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а челове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чень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8"/>
          <p:cNvSpPr/>
          <p:nvPr/>
        </p:nvSpPr>
        <p:spPr>
          <a:xfrm>
            <a:off x="797040" y="4322880"/>
            <a:ext cx="1687320" cy="2214360"/>
          </a:xfrm>
          <a:custGeom>
            <a:avLst/>
            <a:gdLst>
              <a:gd name="textAreaLeft" fmla="*/ 0 w 1687320"/>
              <a:gd name="textAreaRight" fmla="*/ 1687680 w 16873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9"/>
          <p:cNvSpPr/>
          <p:nvPr/>
        </p:nvSpPr>
        <p:spPr>
          <a:xfrm>
            <a:off x="4889520" y="3068640"/>
            <a:ext cx="4003560" cy="331308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fda1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20"/>
          <p:cNvSpPr/>
          <p:nvPr/>
        </p:nvSpPr>
        <p:spPr>
          <a:xfrm>
            <a:off x="4915080" y="3284640"/>
            <a:ext cx="1812600" cy="306072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1142" h="1928">
                <a:moveTo>
                  <a:pt x="0" y="37"/>
                </a:moveTo>
                <a:cubicBezTo>
                  <a:pt x="61" y="52"/>
                  <a:pt x="110" y="91"/>
                  <a:pt x="132" y="157"/>
                </a:cubicBezTo>
                <a:cubicBezTo>
                  <a:pt x="136" y="169"/>
                  <a:pt x="136" y="183"/>
                  <a:pt x="144" y="193"/>
                </a:cubicBezTo>
                <a:cubicBezTo>
                  <a:pt x="161" y="214"/>
                  <a:pt x="192" y="221"/>
                  <a:pt x="216" y="229"/>
                </a:cubicBezTo>
                <a:cubicBezTo>
                  <a:pt x="232" y="307"/>
                  <a:pt x="242" y="328"/>
                  <a:pt x="288" y="397"/>
                </a:cubicBezTo>
                <a:cubicBezTo>
                  <a:pt x="296" y="409"/>
                  <a:pt x="307" y="419"/>
                  <a:pt x="312" y="433"/>
                </a:cubicBezTo>
                <a:cubicBezTo>
                  <a:pt x="320" y="457"/>
                  <a:pt x="336" y="505"/>
                  <a:pt x="336" y="505"/>
                </a:cubicBezTo>
                <a:cubicBezTo>
                  <a:pt x="350" y="1008"/>
                  <a:pt x="295" y="796"/>
                  <a:pt x="384" y="997"/>
                </a:cubicBezTo>
                <a:cubicBezTo>
                  <a:pt x="414" y="1065"/>
                  <a:pt x="404" y="1087"/>
                  <a:pt x="468" y="1129"/>
                </a:cubicBezTo>
                <a:cubicBezTo>
                  <a:pt x="476" y="1141"/>
                  <a:pt x="482" y="1155"/>
                  <a:pt x="492" y="1165"/>
                </a:cubicBezTo>
                <a:cubicBezTo>
                  <a:pt x="502" y="1175"/>
                  <a:pt x="519" y="1178"/>
                  <a:pt x="528" y="1189"/>
                </a:cubicBezTo>
                <a:cubicBezTo>
                  <a:pt x="570" y="1237"/>
                  <a:pt x="591" y="1288"/>
                  <a:pt x="636" y="1333"/>
                </a:cubicBezTo>
                <a:cubicBezTo>
                  <a:pt x="648" y="1369"/>
                  <a:pt x="660" y="1405"/>
                  <a:pt x="672" y="1441"/>
                </a:cubicBezTo>
                <a:cubicBezTo>
                  <a:pt x="676" y="1453"/>
                  <a:pt x="673" y="1470"/>
                  <a:pt x="684" y="1477"/>
                </a:cubicBezTo>
                <a:cubicBezTo>
                  <a:pt x="708" y="1493"/>
                  <a:pt x="732" y="1509"/>
                  <a:pt x="756" y="1525"/>
                </a:cubicBezTo>
                <a:cubicBezTo>
                  <a:pt x="768" y="1533"/>
                  <a:pt x="792" y="1549"/>
                  <a:pt x="792" y="1549"/>
                </a:cubicBezTo>
                <a:cubicBezTo>
                  <a:pt x="800" y="1561"/>
                  <a:pt x="811" y="1571"/>
                  <a:pt x="816" y="1585"/>
                </a:cubicBezTo>
                <a:cubicBezTo>
                  <a:pt x="824" y="1609"/>
                  <a:pt x="818" y="1674"/>
                  <a:pt x="852" y="1693"/>
                </a:cubicBezTo>
                <a:cubicBezTo>
                  <a:pt x="870" y="1703"/>
                  <a:pt x="892" y="1701"/>
                  <a:pt x="912" y="1705"/>
                </a:cubicBezTo>
                <a:cubicBezTo>
                  <a:pt x="924" y="1740"/>
                  <a:pt x="922" y="1811"/>
                  <a:pt x="948" y="1837"/>
                </a:cubicBezTo>
                <a:cubicBezTo>
                  <a:pt x="957" y="1846"/>
                  <a:pt x="973" y="1843"/>
                  <a:pt x="984" y="1849"/>
                </a:cubicBezTo>
                <a:cubicBezTo>
                  <a:pt x="1142" y="1928"/>
                  <a:pt x="754" y="1862"/>
                  <a:pt x="732" y="1861"/>
                </a:cubicBezTo>
                <a:cubicBezTo>
                  <a:pt x="688" y="1832"/>
                  <a:pt x="651" y="1814"/>
                  <a:pt x="600" y="1801"/>
                </a:cubicBezTo>
                <a:cubicBezTo>
                  <a:pt x="483" y="1723"/>
                  <a:pt x="400" y="1760"/>
                  <a:pt x="228" y="1753"/>
                </a:cubicBezTo>
                <a:cubicBezTo>
                  <a:pt x="183" y="1708"/>
                  <a:pt x="161" y="1656"/>
                  <a:pt x="108" y="1621"/>
                </a:cubicBezTo>
                <a:cubicBezTo>
                  <a:pt x="12" y="1477"/>
                  <a:pt x="78" y="1365"/>
                  <a:pt x="84" y="1153"/>
                </a:cubicBezTo>
                <a:cubicBezTo>
                  <a:pt x="80" y="1017"/>
                  <a:pt x="78" y="881"/>
                  <a:pt x="72" y="745"/>
                </a:cubicBezTo>
                <a:cubicBezTo>
                  <a:pt x="69" y="681"/>
                  <a:pt x="54" y="625"/>
                  <a:pt x="36" y="565"/>
                </a:cubicBezTo>
                <a:cubicBezTo>
                  <a:pt x="29" y="541"/>
                  <a:pt x="12" y="493"/>
                  <a:pt x="12" y="493"/>
                </a:cubicBezTo>
                <a:cubicBezTo>
                  <a:pt x="8" y="369"/>
                  <a:pt x="0" y="245"/>
                  <a:pt x="0" y="121"/>
                </a:cubicBezTo>
                <a:cubicBezTo>
                  <a:pt x="0" y="0"/>
                  <a:pt x="38" y="187"/>
                  <a:pt x="0" y="37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5407200" y="3668760"/>
            <a:ext cx="290988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ше один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день бы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человеком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чем тысячу ле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ег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енью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5"/>
          <p:cNvSpPr/>
          <p:nvPr/>
        </p:nvSpPr>
        <p:spPr>
          <a:xfrm>
            <a:off x="395280" y="26028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cc"/>
                </a:solidFill>
                <a:uFillTx/>
                <a:latin typeface="Arial"/>
              </a:rPr>
              <a:t>Парк Академ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C809-A013-4450-B9E2-0C435B996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684360" y="979560"/>
            <a:ext cx="8064360" cy="58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ОЧЕМУ?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</a:t>
            </a: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ченик философа Аристотеля</a:t>
            </a:r>
            <a:br>
              <a:rPr sz="3000"/>
            </a:b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великий полководец</a:t>
            </a:r>
            <a:br>
              <a:rPr sz="3000"/>
            </a:b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Александр Македонский,</a:t>
            </a:r>
            <a:br>
              <a:rPr sz="4000"/>
            </a:b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который завоевал почти весь мир,</a:t>
            </a:r>
            <a:br>
              <a:rPr sz="3000"/>
            </a:b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перед смертью оставил завещание:</a:t>
            </a:r>
            <a:br>
              <a:rPr sz="3000"/>
            </a:b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«Похороните меня с открытыми</a:t>
            </a:r>
            <a:br>
              <a:rPr sz="3000"/>
            </a:b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руками, повернутыми ладонями вверх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aristotel_2"/>
          <p:cNvPicPr/>
          <p:nvPr/>
        </p:nvPicPr>
        <p:blipFill>
          <a:blip r:embed="rId1"/>
          <a:stretch/>
        </p:blipFill>
        <p:spPr>
          <a:xfrm>
            <a:off x="871560" y="115920"/>
            <a:ext cx="1900080" cy="2663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makedonski_2"/>
          <p:cNvPicPr/>
          <p:nvPr/>
        </p:nvPicPr>
        <p:blipFill>
          <a:blip r:embed="rId2"/>
          <a:stretch/>
        </p:blipFill>
        <p:spPr>
          <a:xfrm>
            <a:off x="6300720" y="117360"/>
            <a:ext cx="2232000" cy="2664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3BFC-6319-49DB-88A9-9A9D3DF27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318960" y="719280"/>
            <a:ext cx="3461040" cy="2124000"/>
          </a:xfrm>
          <a:custGeom>
            <a:avLst/>
            <a:gdLst>
              <a:gd name="textAreaLeft" fmla="*/ 0 w 3461040"/>
              <a:gd name="textAreaRight" fmla="*/ 3461400 w 3461040"/>
              <a:gd name="textAreaTop" fmla="*/ 0 h 2124000"/>
              <a:gd name="textAreaBottom" fmla="*/ 2124360 h 212400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4360" y="934920"/>
            <a:ext cx="21589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еугольны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кам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7"/>
          <p:cNvSpPr/>
          <p:nvPr/>
        </p:nvSpPr>
        <p:spPr>
          <a:xfrm>
            <a:off x="306360" y="896760"/>
            <a:ext cx="1457280" cy="1913040"/>
          </a:xfrm>
          <a:custGeom>
            <a:avLst/>
            <a:gdLst>
              <a:gd name="textAreaLeft" fmla="*/ 0 w 1457280"/>
              <a:gd name="textAreaRight" fmla="*/ 1457640 w 1457280"/>
              <a:gd name="textAreaTop" fmla="*/ 0 h 1913040"/>
              <a:gd name="textAreaBottom" fmla="*/ 1913400 h 191304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4816440" y="333360"/>
            <a:ext cx="3211560" cy="197172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eafe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5046840" y="430200"/>
            <a:ext cx="21175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ософски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к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2"/>
          <p:cNvSpPr/>
          <p:nvPr/>
        </p:nvSpPr>
        <p:spPr>
          <a:xfrm>
            <a:off x="4716360" y="430200"/>
            <a:ext cx="1352520" cy="1774800"/>
          </a:xfrm>
          <a:custGeom>
            <a:avLst/>
            <a:gdLst>
              <a:gd name="textAreaLeft" fmla="*/ 0 w 1352520"/>
              <a:gd name="textAreaRight" fmla="*/ 1352880 w 135252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4"/>
          <p:cNvSpPr/>
          <p:nvPr/>
        </p:nvSpPr>
        <p:spPr>
          <a:xfrm>
            <a:off x="561960" y="3095640"/>
            <a:ext cx="3249720" cy="1994040"/>
          </a:xfrm>
          <a:custGeom>
            <a:avLst/>
            <a:gdLst>
              <a:gd name="textAreaLeft" fmla="*/ 0 w 3249720"/>
              <a:gd name="textAreaRight" fmla="*/ 3250080 w 3249720"/>
              <a:gd name="textAreaTop" fmla="*/ 0 h 1994040"/>
              <a:gd name="textAreaBottom" fmla="*/ 1994400 h 199404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a0ee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835200" y="3236760"/>
            <a:ext cx="29098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ен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претк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8"/>
          <p:cNvSpPr/>
          <p:nvPr/>
        </p:nvSpPr>
        <p:spPr>
          <a:xfrm>
            <a:off x="538200" y="3268800"/>
            <a:ext cx="1369800" cy="1798560"/>
          </a:xfrm>
          <a:custGeom>
            <a:avLst/>
            <a:gdLst>
              <a:gd name="textAreaLeft" fmla="*/ 0 w 1369800"/>
              <a:gd name="textAreaRight" fmla="*/ 1370160 w 136980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9"/>
          <p:cNvSpPr/>
          <p:nvPr/>
        </p:nvSpPr>
        <p:spPr>
          <a:xfrm>
            <a:off x="4889520" y="2637000"/>
            <a:ext cx="2995560" cy="2479680"/>
          </a:xfrm>
          <a:custGeom>
            <a:avLst/>
            <a:gdLst>
              <a:gd name="textAreaLeft" fmla="*/ 0 w 2995560"/>
              <a:gd name="textAreaRight" fmla="*/ 2995920 w 2995560"/>
              <a:gd name="textAreaTop" fmla="*/ 0 h 2479680"/>
              <a:gd name="textAreaBottom" fmla="*/ 2480040 h 247968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fda1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0"/>
          <p:cNvSpPr/>
          <p:nvPr/>
        </p:nvSpPr>
        <p:spPr>
          <a:xfrm>
            <a:off x="4943520" y="2793960"/>
            <a:ext cx="1357200" cy="229068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2290680"/>
              <a:gd name="textAreaBottom" fmla="*/ 2291040 h 2290680"/>
            </a:gdLst>
            <a:ahLst/>
            <a:rect l="textAreaLeft" t="textAreaTop" r="textAreaRight" b="textAreaBottom"/>
            <a:pathLst>
              <a:path w="1142" h="1928">
                <a:moveTo>
                  <a:pt x="0" y="37"/>
                </a:moveTo>
                <a:cubicBezTo>
                  <a:pt x="61" y="52"/>
                  <a:pt x="110" y="91"/>
                  <a:pt x="132" y="157"/>
                </a:cubicBezTo>
                <a:cubicBezTo>
                  <a:pt x="136" y="169"/>
                  <a:pt x="136" y="183"/>
                  <a:pt x="144" y="193"/>
                </a:cubicBezTo>
                <a:cubicBezTo>
                  <a:pt x="161" y="214"/>
                  <a:pt x="192" y="221"/>
                  <a:pt x="216" y="229"/>
                </a:cubicBezTo>
                <a:cubicBezTo>
                  <a:pt x="232" y="307"/>
                  <a:pt x="242" y="328"/>
                  <a:pt x="288" y="397"/>
                </a:cubicBezTo>
                <a:cubicBezTo>
                  <a:pt x="296" y="409"/>
                  <a:pt x="307" y="419"/>
                  <a:pt x="312" y="433"/>
                </a:cubicBezTo>
                <a:cubicBezTo>
                  <a:pt x="320" y="457"/>
                  <a:pt x="336" y="505"/>
                  <a:pt x="336" y="505"/>
                </a:cubicBezTo>
                <a:cubicBezTo>
                  <a:pt x="350" y="1008"/>
                  <a:pt x="295" y="796"/>
                  <a:pt x="384" y="997"/>
                </a:cubicBezTo>
                <a:cubicBezTo>
                  <a:pt x="414" y="1065"/>
                  <a:pt x="404" y="1087"/>
                  <a:pt x="468" y="1129"/>
                </a:cubicBezTo>
                <a:cubicBezTo>
                  <a:pt x="476" y="1141"/>
                  <a:pt x="482" y="1155"/>
                  <a:pt x="492" y="1165"/>
                </a:cubicBezTo>
                <a:cubicBezTo>
                  <a:pt x="502" y="1175"/>
                  <a:pt x="519" y="1178"/>
                  <a:pt x="528" y="1189"/>
                </a:cubicBezTo>
                <a:cubicBezTo>
                  <a:pt x="570" y="1237"/>
                  <a:pt x="591" y="1288"/>
                  <a:pt x="636" y="1333"/>
                </a:cubicBezTo>
                <a:cubicBezTo>
                  <a:pt x="648" y="1369"/>
                  <a:pt x="660" y="1405"/>
                  <a:pt x="672" y="1441"/>
                </a:cubicBezTo>
                <a:cubicBezTo>
                  <a:pt x="676" y="1453"/>
                  <a:pt x="673" y="1470"/>
                  <a:pt x="684" y="1477"/>
                </a:cubicBezTo>
                <a:cubicBezTo>
                  <a:pt x="708" y="1493"/>
                  <a:pt x="732" y="1509"/>
                  <a:pt x="756" y="1525"/>
                </a:cubicBezTo>
                <a:cubicBezTo>
                  <a:pt x="768" y="1533"/>
                  <a:pt x="792" y="1549"/>
                  <a:pt x="792" y="1549"/>
                </a:cubicBezTo>
                <a:cubicBezTo>
                  <a:pt x="800" y="1561"/>
                  <a:pt x="811" y="1571"/>
                  <a:pt x="816" y="1585"/>
                </a:cubicBezTo>
                <a:cubicBezTo>
                  <a:pt x="824" y="1609"/>
                  <a:pt x="818" y="1674"/>
                  <a:pt x="852" y="1693"/>
                </a:cubicBezTo>
                <a:cubicBezTo>
                  <a:pt x="870" y="1703"/>
                  <a:pt x="892" y="1701"/>
                  <a:pt x="912" y="1705"/>
                </a:cubicBezTo>
                <a:cubicBezTo>
                  <a:pt x="924" y="1740"/>
                  <a:pt x="922" y="1811"/>
                  <a:pt x="948" y="1837"/>
                </a:cubicBezTo>
                <a:cubicBezTo>
                  <a:pt x="957" y="1846"/>
                  <a:pt x="973" y="1843"/>
                  <a:pt x="984" y="1849"/>
                </a:cubicBezTo>
                <a:cubicBezTo>
                  <a:pt x="1142" y="1928"/>
                  <a:pt x="754" y="1862"/>
                  <a:pt x="732" y="1861"/>
                </a:cubicBezTo>
                <a:cubicBezTo>
                  <a:pt x="688" y="1832"/>
                  <a:pt x="651" y="1814"/>
                  <a:pt x="600" y="1801"/>
                </a:cubicBezTo>
                <a:cubicBezTo>
                  <a:pt x="483" y="1723"/>
                  <a:pt x="400" y="1760"/>
                  <a:pt x="228" y="1753"/>
                </a:cubicBezTo>
                <a:cubicBezTo>
                  <a:pt x="183" y="1708"/>
                  <a:pt x="161" y="1656"/>
                  <a:pt x="108" y="1621"/>
                </a:cubicBezTo>
                <a:cubicBezTo>
                  <a:pt x="12" y="1477"/>
                  <a:pt x="78" y="1365"/>
                  <a:pt x="84" y="1153"/>
                </a:cubicBezTo>
                <a:cubicBezTo>
                  <a:pt x="80" y="1017"/>
                  <a:pt x="78" y="881"/>
                  <a:pt x="72" y="745"/>
                </a:cubicBezTo>
                <a:cubicBezTo>
                  <a:pt x="69" y="681"/>
                  <a:pt x="54" y="625"/>
                  <a:pt x="36" y="565"/>
                </a:cubicBezTo>
                <a:cubicBezTo>
                  <a:pt x="29" y="541"/>
                  <a:pt x="12" y="493"/>
                  <a:pt x="12" y="493"/>
                </a:cubicBezTo>
                <a:cubicBezTo>
                  <a:pt x="8" y="369"/>
                  <a:pt x="0" y="245"/>
                  <a:pt x="0" y="121"/>
                </a:cubicBezTo>
                <a:cubicBezTo>
                  <a:pt x="0" y="0"/>
                  <a:pt x="38" y="187"/>
                  <a:pt x="0" y="37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5364000" y="2997360"/>
            <a:ext cx="2117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шебны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5"/>
          <p:cNvSpPr/>
          <p:nvPr/>
        </p:nvSpPr>
        <p:spPr>
          <a:xfrm>
            <a:off x="826920" y="5445000"/>
            <a:ext cx="2303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дце ум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6"/>
          <p:cNvSpPr/>
          <p:nvPr/>
        </p:nvSpPr>
        <p:spPr>
          <a:xfrm>
            <a:off x="611280" y="5373720"/>
            <a:ext cx="251928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7"/>
          <p:cNvSpPr/>
          <p:nvPr/>
        </p:nvSpPr>
        <p:spPr>
          <a:xfrm>
            <a:off x="826920" y="6164280"/>
            <a:ext cx="26654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ньги не пах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8"/>
          <p:cNvSpPr/>
          <p:nvPr/>
        </p:nvSpPr>
        <p:spPr>
          <a:xfrm>
            <a:off x="468360" y="6093000"/>
            <a:ext cx="295128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9"/>
          <p:cNvSpPr/>
          <p:nvPr/>
        </p:nvSpPr>
        <p:spPr>
          <a:xfrm>
            <a:off x="4859280" y="5373720"/>
            <a:ext cx="2737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 есть 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0"/>
          <p:cNvSpPr/>
          <p:nvPr/>
        </p:nvSpPr>
        <p:spPr>
          <a:xfrm>
            <a:off x="4500720" y="5302080"/>
            <a:ext cx="295092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1"/>
          <p:cNvSpPr/>
          <p:nvPr/>
        </p:nvSpPr>
        <p:spPr>
          <a:xfrm>
            <a:off x="4498920" y="6093000"/>
            <a:ext cx="3168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ши творить до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2"/>
          <p:cNvSpPr/>
          <p:nvPr/>
        </p:nvSpPr>
        <p:spPr>
          <a:xfrm>
            <a:off x="4140360" y="6021360"/>
            <a:ext cx="395892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250920" y="-27000"/>
            <a:ext cx="410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cc"/>
                </a:solidFill>
                <a:uFillTx/>
                <a:latin typeface="Arial"/>
              </a:rPr>
              <a:t>Парк Академ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Sale</cp:lastModifiedBy>
  <dcterms:modified xsi:type="dcterms:W3CDTF">2010-11-03T11:27:40Z</dcterms:modified>
  <cp:revision>122</cp:revision>
  <dc:subject/>
  <dc:title>Slide 1</dc:title>
</cp:coreProperties>
</file>