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B3E-7AA0-4983-8FDA-B74914635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E60-0A94-49DD-A671-34D711E5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5B34-82A5-40A6-8248-37FA468FD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A46-09DC-4AD7-B853-CEFB9DB1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BBF-BCEB-48FE-BDA2-C600DF75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7E9-D62D-400C-B75F-75B699A1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F6F8-6979-4530-B783-C0A9CFFF3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1F12-0FAD-4A96-879C-446E82C7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ACE-BB7E-4A36-9AAC-9C7AB129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E67-9069-45E0-A5AB-9A818634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5AD-EEC5-4AA8-BFA6-2E5444AF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5D5-212E-4381-A078-DDD18E94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2A0-1875-4DF3-9CE9-298D8F79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6CB-AE5A-4F37-818F-32CB84FE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6C3-BB66-46D7-99D8-7D8D2F0D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897-B282-41BF-8F4B-AEA1F09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D37-9FBF-4CB0-AA5C-44FD6EB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256-6F1A-4C4A-B01A-74FF365D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C59-DCC9-4119-AC85-62192ED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75D-E8D8-4E1A-9DCD-110791E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27E-5021-4A54-9A6E-244ABEA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5C3-3BAE-4040-A297-3BDA6DF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F2A-0D06-4575-9CB7-35F9FB3C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m_26753.jpg"/>
          <p:cNvPicPr/>
          <p:nvPr/>
        </p:nvPicPr>
        <p:blipFill>
          <a:blip r:embed="rId1"/>
          <a:stretch/>
        </p:blipFill>
        <p:spPr>
          <a:xfrm>
            <a:off x="2438280" y="2590920"/>
            <a:ext cx="1371600" cy="168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029200" y="25909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orczak.jpg"/>
          <p:cNvPicPr/>
          <p:nvPr/>
        </p:nvPicPr>
        <p:blipFill>
          <a:blip r:embed="rId3"/>
          <a:stretch/>
        </p:blipFill>
        <p:spPr>
          <a:xfrm>
            <a:off x="3962520" y="5257800"/>
            <a:ext cx="1071360" cy="139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ages.jpeg"/>
          <p:cNvPicPr/>
          <p:nvPr/>
        </p:nvPicPr>
        <p:blipFill>
          <a:blip r:embed="rId4"/>
          <a:stretch/>
        </p:blipFill>
        <p:spPr>
          <a:xfrm>
            <a:off x="7315200" y="4724280"/>
            <a:ext cx="114300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80px-Makarenko.jpg"/>
          <p:cNvPicPr/>
          <p:nvPr/>
        </p:nvPicPr>
        <p:blipFill>
          <a:blip r:embed="rId5"/>
          <a:stretch/>
        </p:blipFill>
        <p:spPr>
          <a:xfrm>
            <a:off x="457200" y="4800600"/>
            <a:ext cx="1219320" cy="175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ygotsky.jpg"/>
          <p:cNvPicPr/>
          <p:nvPr/>
        </p:nvPicPr>
        <p:blipFill>
          <a:blip r:embed="rId6"/>
          <a:stretch/>
        </p:blipFill>
        <p:spPr>
          <a:xfrm>
            <a:off x="380880" y="1523880"/>
            <a:ext cx="150660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45700.jpg"/>
          <p:cNvPicPr/>
          <p:nvPr/>
        </p:nvPicPr>
        <p:blipFill>
          <a:blip r:embed="rId7"/>
          <a:stretch/>
        </p:blipFill>
        <p:spPr>
          <a:xfrm>
            <a:off x="7315200" y="1523880"/>
            <a:ext cx="1447920" cy="171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все род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з детст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_26753.jpg"/>
          <p:cNvPicPr/>
          <p:nvPr/>
        </p:nvPicPr>
        <p:blipFill>
          <a:blip r:embed="rId1"/>
          <a:stretch/>
        </p:blipFill>
        <p:spPr>
          <a:xfrm>
            <a:off x="6705720" y="4308480"/>
            <a:ext cx="1828800" cy="22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44680" y="4495680"/>
            <a:ext cx="1817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vygotsky.jpg"/>
          <p:cNvPicPr/>
          <p:nvPr/>
        </p:nvPicPr>
        <p:blipFill>
          <a:blip r:embed="rId3"/>
          <a:stretch/>
        </p:blipFill>
        <p:spPr>
          <a:xfrm>
            <a:off x="3505320" y="4724280"/>
            <a:ext cx="157464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.jpeg"/>
          <p:cNvPicPr/>
          <p:nvPr/>
        </p:nvPicPr>
        <p:blipFill>
          <a:blip r:embed="rId4"/>
          <a:stretch/>
        </p:blipFill>
        <p:spPr>
          <a:xfrm>
            <a:off x="7086600" y="53352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557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Является ли целью Вашей педагогической деятельнос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спитан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бенка? Нужно ли ставить такую ц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чем Вы находите различие между понятиями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буч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есть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Т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мыслит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воб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едагогическом проце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Ребенок был б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ula ras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,тогда дело закрутилось бы совершенно по-другому. Однако видно, что Природа не есть плотник, который готовит и хранит отшлифованные доски. Нет, она создает уже потенциально определенные 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сущности которых изначально посеяны семена их будущих лично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Д.Н.Узнадз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де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самого ранне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ваются вне общества и созданных обществом явлений, то они остаются на уровне развития животных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.Н.Лео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5000" y="205740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можности, функции, будущая мощь,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5000" y="380988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она актуального развития = 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838080" y="2111400"/>
            <a:ext cx="2667240" cy="2765520"/>
          </a:xfrm>
          <a:prstGeom prst="ellipse">
            <a:avLst/>
          </a:prstGeom>
          <a:noFill/>
          <a:ln w="57240">
            <a:solidFill>
              <a:srgbClr val="222268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47920" y="14479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47920" y="30481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5000" y="21337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она ближайшего развития = 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-Right Arrow 11"/>
          <p:cNvSpPr/>
          <p:nvPr/>
        </p:nvSpPr>
        <p:spPr>
          <a:xfrm>
            <a:off x="3505320" y="3276720"/>
            <a:ext cx="761760" cy="38088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152280" y="1851120"/>
            <a:ext cx="3505320" cy="36352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31464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4952880" y="1371600"/>
            <a:ext cx="4114800" cy="426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4120" y="2971800"/>
            <a:ext cx="350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alf Frame 10"/>
          <p:cNvSpPr/>
          <p:nvPr/>
        </p:nvSpPr>
        <p:spPr>
          <a:xfrm rot="18841200">
            <a:off x="4146480" y="3124440"/>
            <a:ext cx="990720" cy="11430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816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6320" y="4314960"/>
            <a:ext cx="2377800" cy="2466720"/>
            <a:chOff x="76320" y="4314960"/>
            <a:chExt cx="2377800" cy="2466720"/>
          </a:xfrm>
        </p:grpSpPr>
        <p:sp>
          <p:nvSpPr>
            <p:cNvPr id="90" name="Oval 6"/>
            <p:cNvSpPr/>
            <p:nvPr/>
          </p:nvSpPr>
          <p:spPr>
            <a:xfrm>
              <a:off x="76320" y="4314960"/>
              <a:ext cx="2377800" cy="2466720"/>
            </a:xfrm>
            <a:prstGeom prst="ellipse">
              <a:avLst/>
            </a:prstGeom>
            <a:solidFill>
              <a:srgbClr val="fff53b"/>
            </a:solidFill>
            <a:ln w="9360">
              <a:solidFill>
                <a:srgbClr val="b6dcdf"/>
              </a:solidFill>
              <a:miter/>
            </a:ln>
            <a:effectLst>
              <a:outerShdw dist="1904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"/>
            <p:cNvSpPr/>
            <p:nvPr/>
          </p:nvSpPr>
          <p:spPr>
            <a:xfrm>
              <a:off x="152280" y="5240160"/>
              <a:ext cx="21859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Ребен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8"/>
          <p:cNvSpPr/>
          <p:nvPr/>
        </p:nvSpPr>
        <p:spPr>
          <a:xfrm>
            <a:off x="6477120" y="76320"/>
            <a:ext cx="2590560" cy="268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477120" y="1066680"/>
            <a:ext cx="266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ight Arrow 16"/>
          <p:cNvSpPr/>
          <p:nvPr/>
        </p:nvSpPr>
        <p:spPr>
          <a:xfrm rot="19759800">
            <a:off x="2197080" y="2596680"/>
            <a:ext cx="5181480" cy="137160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24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3276720" y="2057400"/>
            <a:ext cx="2604960" cy="270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76720" y="3154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 rot="19800600">
            <a:off x="3273480" y="3068280"/>
            <a:ext cx="2625840" cy="690480"/>
          </a:xfrm>
          <a:prstGeom prst="rect">
            <a:avLst/>
          </a:prstGeom>
          <a:noFill/>
          <a:ln w="9360">
            <a:solidFill>
              <a:srgbClr val="b6dcdf"/>
            </a:solidFill>
            <a:prstDash val="sysDot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Закон привязанности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iley Face 2"/>
          <p:cNvSpPr/>
          <p:nvPr/>
        </p:nvSpPr>
        <p:spPr>
          <a:xfrm>
            <a:off x="3429000" y="2743200"/>
            <a:ext cx="914400" cy="83808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iley Face 3"/>
          <p:cNvSpPr/>
          <p:nvPr/>
        </p:nvSpPr>
        <p:spPr>
          <a:xfrm>
            <a:off x="5105520" y="2514600"/>
            <a:ext cx="1081080" cy="99072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iley Face 4"/>
          <p:cNvSpPr/>
          <p:nvPr/>
        </p:nvSpPr>
        <p:spPr>
          <a:xfrm>
            <a:off x="4481640" y="3962520"/>
            <a:ext cx="685800" cy="62856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5"/>
          <p:cNvSpPr/>
          <p:nvPr/>
        </p:nvSpPr>
        <p:spPr>
          <a:xfrm>
            <a:off x="3487680" y="3657600"/>
            <a:ext cx="855720" cy="22096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6"/>
          <p:cNvSpPr/>
          <p:nvPr/>
        </p:nvSpPr>
        <p:spPr>
          <a:xfrm rot="10800000">
            <a:off x="5195880" y="3581280"/>
            <a:ext cx="914400" cy="23623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 rot="10800000">
            <a:off x="4603680" y="4723920"/>
            <a:ext cx="501840" cy="129564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 rot="21017400">
            <a:off x="3341520" y="4813200"/>
            <a:ext cx="2948040" cy="657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12"/>
          <p:cNvSpPr/>
          <p:nvPr/>
        </p:nvSpPr>
        <p:spPr>
          <a:xfrm>
            <a:off x="3581280" y="3657600"/>
            <a:ext cx="685800" cy="17524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13"/>
          <p:cNvSpPr/>
          <p:nvPr/>
        </p:nvSpPr>
        <p:spPr>
          <a:xfrm rot="10800000">
            <a:off x="4597200" y="4723920"/>
            <a:ext cx="507960" cy="7621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14"/>
          <p:cNvSpPr/>
          <p:nvPr/>
        </p:nvSpPr>
        <p:spPr>
          <a:xfrm rot="10800000">
            <a:off x="5410080" y="472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9-02-20T07:05:43Z</dcterms:modified>
  <cp:revision>116</cp:revision>
  <dc:subject/>
  <dc:title>Slide 1</dc:title>
</cp:coreProperties>
</file>